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4.jpeg" ContentType="image/jpeg"/>
  <Override PartName="/ppt/media/image2.png" ContentType="image/png"/>
  <Override PartName="/ppt/media/image25.jpeg" ContentType="image/jpeg"/>
  <Override PartName="/ppt/media/image27.jpeg" ContentType="image/jpeg"/>
  <Override PartName="/ppt/media/image10.png" ContentType="image/png"/>
  <Override PartName="/ppt/media/image28.jpeg" ContentType="image/jpeg"/>
  <Override PartName="/ppt/media/image18.png" ContentType="image/png"/>
  <Override PartName="/ppt/media/image7.jpeg" ContentType="image/jpeg"/>
  <Override PartName="/ppt/media/image5.png" ContentType="image/png"/>
  <Override PartName="/ppt/media/image8.jpeg" ContentType="image/jpeg"/>
  <Override PartName="/ppt/media/image6.png" ContentType="image/png"/>
  <Override PartName="/ppt/media/image26.png" ContentType="image/png"/>
  <Override PartName="/ppt/media/image3.gif" ContentType="image/gif"/>
  <Override PartName="/ppt/media/image12.jpeg" ContentType="image/jpeg"/>
  <Override PartName="/ppt/media/image13.png" ContentType="image/png"/>
  <Override PartName="/ppt/media/image30.jpeg" ContentType="image/jpeg"/>
  <Override PartName="/ppt/media/image15.png" ContentType="image/png"/>
  <Override PartName="/ppt/media/image24.jpeg" ContentType="image/jpeg"/>
  <Override PartName="/ppt/media/image11.png" ContentType="image/png"/>
  <Override PartName="/ppt/media/image9.jpeg" ContentType="image/jpeg"/>
  <Override PartName="/ppt/media/image1.png" ContentType="image/png"/>
  <Override PartName="/ppt/media/image14.png" ContentType="image/png"/>
  <Override PartName="/ppt/media/image16.png" ContentType="image/png"/>
  <Override PartName="/ppt/media/image17.png" ContentType="image/png"/>
  <Override PartName="/ppt/media/image19.png" ContentType="image/png"/>
  <Override PartName="/ppt/media/image20.jpeg" ContentType="image/jpeg"/>
  <Override PartName="/ppt/media/image29.png" ContentType="image/png"/>
  <Override PartName="/ppt/media/image21.jpeg" ContentType="image/jpeg"/>
  <Override PartName="/ppt/media/image2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A6E1E-95EC-42B7-A6F4-04695926D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8"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DFD6E-2F2C-46B1-B55A-1DF9D48C6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1"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845DF-A17D-4798-9636-F5866BB76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6"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E8FE4-5C56-4007-BFCD-71AD6C8A9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9B406A-8067-431D-8C7D-2D44C1D73C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08"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54CC8-9D41-4C61-979F-FAB8B8BF5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10"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31DC3-2556-4302-87B7-B7EDE23C9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12"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3"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2F201-B844-44B9-8917-A3D1CB203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6F97E-5897-44FD-AD0D-8D64CA28A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17B74-EE90-4DA8-A9DB-262B33CAC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17"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9"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C7F24-AE0A-4F57-8FFD-A9E6D908F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57"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FC053-FF99-47F8-98E0-0C39D34B8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21"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2"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3"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18B4B-5280-4686-9CB2-C08DEE683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25"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6"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7"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14963-BE83-4C5E-870C-AB695A471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29"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0"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9ADB0-9707-4B28-B11E-8AEAB8983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32"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3"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4"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5"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ABE11D-2A51-4E98-94D7-1B3DC686A2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37"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8"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9"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0"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1"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2"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DE7B17-EC5C-4EA1-A0EB-DB363E84B1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5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87BAE-34C2-4998-9879-8445C944C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1"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D0DAC-3ADB-4A29-80E5-EB70CA21D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5C94B-E788-45FE-8147-6ACEB083D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0A4EC-A12F-4DDA-B4F5-505092FBB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6"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A0EC1-E412-4380-8113-E8422CD9D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0"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B83E9-4FAB-4B15-8029-03DBD90E8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4"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DB342-0CE3-4757-B6B7-504565CCF9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8280" y="99720"/>
            <a:ext cx="1431000" cy="6644160"/>
            <a:chOff x="-8280" y="99720"/>
            <a:chExt cx="1431000" cy="6644160"/>
          </a:xfrm>
        </p:grpSpPr>
        <p:sp>
          <p:nvSpPr>
            <p:cNvPr id="1" name="Arc 3"/>
            <p:cNvSpPr/>
            <p:nvPr/>
          </p:nvSpPr>
          <p:spPr>
            <a:xfrm rot="2700000">
              <a:off x="550440" y="249120"/>
              <a:ext cx="722520" cy="722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rot="2700000">
              <a:off x="540000" y="259560"/>
              <a:ext cx="695520" cy="690480"/>
            </a:xfrm>
            <a:custGeom>
              <a:avLst/>
              <a:gdLst/>
              <a:ahLst/>
              <a:rect l="l" t="t" r="r" b="b"/>
              <a:pathLst>
                <a:path fill="none" w="20808" h="20673">
                  <a:moveTo>
                    <a:pt x="6259" y="-1"/>
                  </a:moveTo>
                  <a:cubicBezTo>
                    <a:pt x="13335" y="2142"/>
                    <a:pt x="18823" y="7754"/>
                    <a:pt x="20807" y="14877"/>
                  </a:cubicBezTo>
                </a:path>
                <a:path stroke="0" w="20808" h="20673">
                  <a:moveTo>
                    <a:pt x="6259" y="-1"/>
                  </a:moveTo>
                  <a:cubicBezTo>
                    <a:pt x="13335" y="2142"/>
                    <a:pt x="18823" y="7754"/>
                    <a:pt x="20807" y="14877"/>
                  </a:cubicBezTo>
                  <a:lnTo>
                    <a:pt x="0" y="20673"/>
                  </a:lnTo>
                  <a:lnTo>
                    <a:pt x="6259" y="-1"/>
                  </a:lnTo>
                  <a:close/>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rot="2700000">
              <a:off x="537840" y="298080"/>
              <a:ext cx="650880" cy="635040"/>
            </a:xfrm>
            <a:custGeom>
              <a:avLst/>
              <a:gdLst/>
              <a:ahLst/>
              <a:rect l="l" t="t" r="r" b="b"/>
              <a:pathLst>
                <a:path fill="none" w="19469" h="18986">
                  <a:moveTo>
                    <a:pt x="10300" y="-1"/>
                  </a:moveTo>
                  <a:cubicBezTo>
                    <a:pt x="14293" y="2166"/>
                    <a:pt x="17501" y="5536"/>
                    <a:pt x="19469" y="9630"/>
                  </a:cubicBezTo>
                </a:path>
                <a:path stroke="0" w="19469" h="18986">
                  <a:moveTo>
                    <a:pt x="10300" y="-1"/>
                  </a:moveTo>
                  <a:cubicBezTo>
                    <a:pt x="14293" y="2166"/>
                    <a:pt x="17501" y="5536"/>
                    <a:pt x="19469" y="9630"/>
                  </a:cubicBezTo>
                  <a:lnTo>
                    <a:pt x="0" y="18986"/>
                  </a:lnTo>
                  <a:lnTo>
                    <a:pt x="10300" y="-1"/>
                  </a:lnTo>
                  <a:close/>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rc 6"/>
            <p:cNvSpPr/>
            <p:nvPr/>
          </p:nvSpPr>
          <p:spPr>
            <a:xfrm rot="2700000">
              <a:off x="530280" y="326520"/>
              <a:ext cx="572760" cy="566640"/>
            </a:xfrm>
            <a:custGeom>
              <a:avLst/>
              <a:gdLst/>
              <a:ahLst/>
              <a:rect l="l" t="t" r="r" b="b"/>
              <a:pathLst>
                <a:path fill="none" w="17119" h="16950">
                  <a:moveTo>
                    <a:pt x="13388" y="0"/>
                  </a:moveTo>
                  <a:cubicBezTo>
                    <a:pt x="14782" y="1101"/>
                    <a:pt x="16035" y="2370"/>
                    <a:pt x="17118" y="3778"/>
                  </a:cubicBezTo>
                </a:path>
                <a:path stroke="0" w="17119" h="16950">
                  <a:moveTo>
                    <a:pt x="13388" y="0"/>
                  </a:moveTo>
                  <a:cubicBezTo>
                    <a:pt x="14782" y="1101"/>
                    <a:pt x="16035" y="2370"/>
                    <a:pt x="17118" y="3778"/>
                  </a:cubicBezTo>
                  <a:lnTo>
                    <a:pt x="0" y="16950"/>
                  </a:lnTo>
                  <a:lnTo>
                    <a:pt x="13388" y="0"/>
                  </a:lnTo>
                  <a:close/>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Arc 7"/>
            <p:cNvSpPr/>
            <p:nvPr/>
          </p:nvSpPr>
          <p:spPr>
            <a:xfrm rot="2700000">
              <a:off x="466920" y="427680"/>
              <a:ext cx="341280" cy="343080"/>
            </a:xfrm>
            <a:custGeom>
              <a:avLst/>
              <a:gdLst/>
              <a:ahLst/>
              <a:rect l="l" t="t" r="r" b="b"/>
              <a:pathLst>
                <a:path fill="none" w="21600" h="21600">
                  <a:moveTo>
                    <a:pt x="-1" y="0"/>
                  </a:moveTo>
                  <a:cubicBezTo>
                    <a:pt x="11890" y="0"/>
                    <a:pt x="21544" y="9609"/>
                    <a:pt x="21599" y="21500"/>
                  </a:cubicBezTo>
                </a:path>
                <a:path stroke="0" w="21600" h="21600">
                  <a:moveTo>
                    <a:pt x="-1" y="0"/>
                  </a:moveTo>
                  <a:cubicBezTo>
                    <a:pt x="11890" y="0"/>
                    <a:pt x="21544" y="9609"/>
                    <a:pt x="21599" y="21500"/>
                  </a:cubicBezTo>
                  <a:lnTo>
                    <a:pt x="0" y="21600"/>
                  </a:lnTo>
                  <a:lnTo>
                    <a:pt x="-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Arc 8"/>
            <p:cNvSpPr/>
            <p:nvPr/>
          </p:nvSpPr>
          <p:spPr>
            <a:xfrm rot="2700000">
              <a:off x="550440" y="1490760"/>
              <a:ext cx="722160" cy="722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Arc 9"/>
            <p:cNvSpPr/>
            <p:nvPr/>
          </p:nvSpPr>
          <p:spPr>
            <a:xfrm rot="2700000">
              <a:off x="540720" y="1500840"/>
              <a:ext cx="695160" cy="690480"/>
            </a:xfrm>
            <a:custGeom>
              <a:avLst/>
              <a:gdLst/>
              <a:ahLst/>
              <a:rect l="l" t="t" r="r" b="b"/>
              <a:pathLst>
                <a:path fill="none" w="20808" h="20673">
                  <a:moveTo>
                    <a:pt x="6259" y="-1"/>
                  </a:moveTo>
                  <a:cubicBezTo>
                    <a:pt x="13335" y="2142"/>
                    <a:pt x="18823" y="7754"/>
                    <a:pt x="20807" y="14877"/>
                  </a:cubicBezTo>
                </a:path>
                <a:path stroke="0" w="20808" h="20673">
                  <a:moveTo>
                    <a:pt x="6259" y="-1"/>
                  </a:moveTo>
                  <a:cubicBezTo>
                    <a:pt x="13335" y="2142"/>
                    <a:pt x="18823" y="7754"/>
                    <a:pt x="20807" y="14877"/>
                  </a:cubicBezTo>
                  <a:lnTo>
                    <a:pt x="0" y="20673"/>
                  </a:lnTo>
                  <a:lnTo>
                    <a:pt x="6259" y="-1"/>
                  </a:lnTo>
                  <a:close/>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Arc 10"/>
            <p:cNvSpPr/>
            <p:nvPr/>
          </p:nvSpPr>
          <p:spPr>
            <a:xfrm rot="2700000">
              <a:off x="537840" y="1539360"/>
              <a:ext cx="650880" cy="635040"/>
            </a:xfrm>
            <a:custGeom>
              <a:avLst/>
              <a:gdLst/>
              <a:ahLst/>
              <a:rect l="l" t="t" r="r" b="b"/>
              <a:pathLst>
                <a:path fill="none" w="19469" h="18986">
                  <a:moveTo>
                    <a:pt x="10300" y="-1"/>
                  </a:moveTo>
                  <a:cubicBezTo>
                    <a:pt x="14293" y="2166"/>
                    <a:pt x="17501" y="5536"/>
                    <a:pt x="19469" y="9630"/>
                  </a:cubicBezTo>
                </a:path>
                <a:path stroke="0" w="19469" h="18986">
                  <a:moveTo>
                    <a:pt x="10300" y="-1"/>
                  </a:moveTo>
                  <a:cubicBezTo>
                    <a:pt x="14293" y="2166"/>
                    <a:pt x="17501" y="5536"/>
                    <a:pt x="19469" y="9630"/>
                  </a:cubicBezTo>
                  <a:lnTo>
                    <a:pt x="0" y="18986"/>
                  </a:lnTo>
                  <a:lnTo>
                    <a:pt x="10300" y="-1"/>
                  </a:lnTo>
                  <a:close/>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 name="Arc 11"/>
            <p:cNvSpPr/>
            <p:nvPr/>
          </p:nvSpPr>
          <p:spPr>
            <a:xfrm rot="2700000">
              <a:off x="530280" y="1568520"/>
              <a:ext cx="573120" cy="566640"/>
            </a:xfrm>
            <a:custGeom>
              <a:avLst/>
              <a:gdLst/>
              <a:ahLst/>
              <a:rect l="l" t="t" r="r" b="b"/>
              <a:pathLst>
                <a:path fill="none" w="17119" h="16950">
                  <a:moveTo>
                    <a:pt x="13388" y="0"/>
                  </a:moveTo>
                  <a:cubicBezTo>
                    <a:pt x="14782" y="1101"/>
                    <a:pt x="16035" y="2370"/>
                    <a:pt x="17118" y="3778"/>
                  </a:cubicBezTo>
                </a:path>
                <a:path stroke="0" w="17119" h="16950">
                  <a:moveTo>
                    <a:pt x="13388" y="0"/>
                  </a:moveTo>
                  <a:cubicBezTo>
                    <a:pt x="14782" y="1101"/>
                    <a:pt x="16035" y="2370"/>
                    <a:pt x="17118" y="3778"/>
                  </a:cubicBezTo>
                  <a:lnTo>
                    <a:pt x="0" y="16950"/>
                  </a:lnTo>
                  <a:lnTo>
                    <a:pt x="13388" y="0"/>
                  </a:lnTo>
                  <a:close/>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 name="Arc 12"/>
            <p:cNvSpPr/>
            <p:nvPr/>
          </p:nvSpPr>
          <p:spPr>
            <a:xfrm rot="2700000">
              <a:off x="465480" y="1675440"/>
              <a:ext cx="341280" cy="343080"/>
            </a:xfrm>
            <a:custGeom>
              <a:avLst/>
              <a:gdLst/>
              <a:ahLst/>
              <a:rect l="l" t="t" r="r" b="b"/>
              <a:pathLst>
                <a:path fill="none" w="21600" h="21600">
                  <a:moveTo>
                    <a:pt x="-1" y="0"/>
                  </a:moveTo>
                  <a:cubicBezTo>
                    <a:pt x="11890" y="0"/>
                    <a:pt x="21544" y="9609"/>
                    <a:pt x="21599" y="21500"/>
                  </a:cubicBezTo>
                </a:path>
                <a:path stroke="0" w="21600" h="21600">
                  <a:moveTo>
                    <a:pt x="-1" y="0"/>
                  </a:moveTo>
                  <a:cubicBezTo>
                    <a:pt x="11890" y="0"/>
                    <a:pt x="21544" y="9609"/>
                    <a:pt x="21599" y="21500"/>
                  </a:cubicBezTo>
                  <a:lnTo>
                    <a:pt x="0" y="21600"/>
                  </a:lnTo>
                  <a:lnTo>
                    <a:pt x="-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 name="Arc 13"/>
            <p:cNvSpPr/>
            <p:nvPr/>
          </p:nvSpPr>
          <p:spPr>
            <a:xfrm rot="2700000">
              <a:off x="550440" y="2741760"/>
              <a:ext cx="722160" cy="722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 name="Arc 14"/>
            <p:cNvSpPr/>
            <p:nvPr/>
          </p:nvSpPr>
          <p:spPr>
            <a:xfrm rot="2700000">
              <a:off x="550440" y="3997440"/>
              <a:ext cx="722160" cy="722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 name="Arc 15"/>
            <p:cNvSpPr/>
            <p:nvPr/>
          </p:nvSpPr>
          <p:spPr>
            <a:xfrm rot="2700000">
              <a:off x="540720" y="4007520"/>
              <a:ext cx="695160" cy="690480"/>
            </a:xfrm>
            <a:custGeom>
              <a:avLst/>
              <a:gdLst/>
              <a:ahLst/>
              <a:rect l="l" t="t" r="r" b="b"/>
              <a:pathLst>
                <a:path fill="none" w="20808" h="20673">
                  <a:moveTo>
                    <a:pt x="6259" y="-1"/>
                  </a:moveTo>
                  <a:cubicBezTo>
                    <a:pt x="13335" y="2142"/>
                    <a:pt x="18823" y="7754"/>
                    <a:pt x="20807" y="14877"/>
                  </a:cubicBezTo>
                </a:path>
                <a:path stroke="0" w="20808" h="20673">
                  <a:moveTo>
                    <a:pt x="6259" y="-1"/>
                  </a:moveTo>
                  <a:cubicBezTo>
                    <a:pt x="13335" y="2142"/>
                    <a:pt x="18823" y="7754"/>
                    <a:pt x="20807" y="14877"/>
                  </a:cubicBezTo>
                  <a:lnTo>
                    <a:pt x="0" y="20673"/>
                  </a:lnTo>
                  <a:lnTo>
                    <a:pt x="6259" y="-1"/>
                  </a:lnTo>
                  <a:close/>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 name="Arc 16"/>
            <p:cNvSpPr/>
            <p:nvPr/>
          </p:nvSpPr>
          <p:spPr>
            <a:xfrm rot="2700000">
              <a:off x="537840" y="4046040"/>
              <a:ext cx="650880" cy="635040"/>
            </a:xfrm>
            <a:custGeom>
              <a:avLst/>
              <a:gdLst/>
              <a:ahLst/>
              <a:rect l="l" t="t" r="r" b="b"/>
              <a:pathLst>
                <a:path fill="none" w="19469" h="18986">
                  <a:moveTo>
                    <a:pt x="10300" y="-1"/>
                  </a:moveTo>
                  <a:cubicBezTo>
                    <a:pt x="14293" y="2166"/>
                    <a:pt x="17501" y="5536"/>
                    <a:pt x="19469" y="9630"/>
                  </a:cubicBezTo>
                </a:path>
                <a:path stroke="0" w="19469" h="18986">
                  <a:moveTo>
                    <a:pt x="10300" y="-1"/>
                  </a:moveTo>
                  <a:cubicBezTo>
                    <a:pt x="14293" y="2166"/>
                    <a:pt x="17501" y="5536"/>
                    <a:pt x="19469" y="9630"/>
                  </a:cubicBezTo>
                  <a:lnTo>
                    <a:pt x="0" y="18986"/>
                  </a:lnTo>
                  <a:lnTo>
                    <a:pt x="10300" y="-1"/>
                  </a:lnTo>
                  <a:close/>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 name="Arc 17"/>
            <p:cNvSpPr/>
            <p:nvPr/>
          </p:nvSpPr>
          <p:spPr>
            <a:xfrm rot="2700000">
              <a:off x="530280" y="4075200"/>
              <a:ext cx="573120" cy="566640"/>
            </a:xfrm>
            <a:custGeom>
              <a:avLst/>
              <a:gdLst/>
              <a:ahLst/>
              <a:rect l="l" t="t" r="r" b="b"/>
              <a:pathLst>
                <a:path fill="none" w="17119" h="16950">
                  <a:moveTo>
                    <a:pt x="13388" y="0"/>
                  </a:moveTo>
                  <a:cubicBezTo>
                    <a:pt x="14782" y="1101"/>
                    <a:pt x="16035" y="2370"/>
                    <a:pt x="17118" y="3778"/>
                  </a:cubicBezTo>
                </a:path>
                <a:path stroke="0" w="17119" h="16950">
                  <a:moveTo>
                    <a:pt x="13388" y="0"/>
                  </a:moveTo>
                  <a:cubicBezTo>
                    <a:pt x="14782" y="1101"/>
                    <a:pt x="16035" y="2370"/>
                    <a:pt x="17118" y="3778"/>
                  </a:cubicBezTo>
                  <a:lnTo>
                    <a:pt x="0" y="16950"/>
                  </a:lnTo>
                  <a:lnTo>
                    <a:pt x="13388" y="0"/>
                  </a:lnTo>
                  <a:close/>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 name="Arc 18"/>
            <p:cNvSpPr/>
            <p:nvPr/>
          </p:nvSpPr>
          <p:spPr>
            <a:xfrm rot="2700000">
              <a:off x="465480" y="4177080"/>
              <a:ext cx="341280" cy="343080"/>
            </a:xfrm>
            <a:custGeom>
              <a:avLst/>
              <a:gdLst/>
              <a:ahLst/>
              <a:rect l="l" t="t" r="r" b="b"/>
              <a:pathLst>
                <a:path fill="none" w="21600" h="21600">
                  <a:moveTo>
                    <a:pt x="-1" y="0"/>
                  </a:moveTo>
                  <a:cubicBezTo>
                    <a:pt x="11890" y="0"/>
                    <a:pt x="21544" y="9609"/>
                    <a:pt x="21599" y="21500"/>
                  </a:cubicBezTo>
                </a:path>
                <a:path stroke="0" w="21600" h="21600">
                  <a:moveTo>
                    <a:pt x="-1" y="0"/>
                  </a:moveTo>
                  <a:cubicBezTo>
                    <a:pt x="11890" y="0"/>
                    <a:pt x="21544" y="9609"/>
                    <a:pt x="21599" y="21500"/>
                  </a:cubicBezTo>
                  <a:lnTo>
                    <a:pt x="0" y="21600"/>
                  </a:lnTo>
                  <a:lnTo>
                    <a:pt x="-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 name="Arc 19"/>
            <p:cNvSpPr/>
            <p:nvPr/>
          </p:nvSpPr>
          <p:spPr>
            <a:xfrm rot="2700000">
              <a:off x="550440" y="5243400"/>
              <a:ext cx="722520" cy="722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 name="Arc 20"/>
            <p:cNvSpPr/>
            <p:nvPr/>
          </p:nvSpPr>
          <p:spPr>
            <a:xfrm rot="18900000">
              <a:off x="141120" y="877680"/>
              <a:ext cx="722520" cy="722160"/>
            </a:xfrm>
            <a:custGeom>
              <a:avLst/>
              <a:gdLst/>
              <a:ahLst/>
              <a:rect l="l" t="t" r="r" b="b"/>
              <a:pathLst>
                <a:path fill="none" w="21600" h="21600">
                  <a:moveTo>
                    <a:pt x="0" y="21553"/>
                  </a:moveTo>
                  <a:cubicBezTo>
                    <a:pt x="25" y="9642"/>
                    <a:pt x="9688" y="0"/>
                    <a:pt x="21599" y="0"/>
                  </a:cubicBezTo>
                </a:path>
                <a:path stroke="0" w="21600" h="21600">
                  <a:moveTo>
                    <a:pt x="0" y="21553"/>
                  </a:moveTo>
                  <a:cubicBezTo>
                    <a:pt x="25" y="9642"/>
                    <a:pt x="9688" y="0"/>
                    <a:pt x="21599" y="0"/>
                  </a:cubicBezTo>
                  <a:lnTo>
                    <a:pt x="21600" y="21600"/>
                  </a:lnTo>
                  <a:lnTo>
                    <a:pt x="0" y="21553"/>
                  </a:lnTo>
                  <a:close/>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 name="Arc 21"/>
            <p:cNvSpPr/>
            <p:nvPr/>
          </p:nvSpPr>
          <p:spPr>
            <a:xfrm rot="18900000">
              <a:off x="155520" y="888480"/>
              <a:ext cx="703440" cy="702000"/>
            </a:xfrm>
            <a:custGeom>
              <a:avLst/>
              <a:gdLst/>
              <a:ahLst/>
              <a:rect l="l" t="t" r="r" b="b"/>
              <a:pathLst>
                <a:path fill="none" w="21031" h="20972">
                  <a:moveTo>
                    <a:pt x="0" y="16046"/>
                  </a:moveTo>
                  <a:cubicBezTo>
                    <a:pt x="1851" y="8142"/>
                    <a:pt x="7977" y="1943"/>
                    <a:pt x="15859" y="0"/>
                  </a:cubicBezTo>
                </a:path>
                <a:path stroke="0" w="21031" h="20972">
                  <a:moveTo>
                    <a:pt x="0" y="16046"/>
                  </a:moveTo>
                  <a:cubicBezTo>
                    <a:pt x="1851" y="8142"/>
                    <a:pt x="7977" y="1943"/>
                    <a:pt x="15859" y="0"/>
                  </a:cubicBezTo>
                  <a:lnTo>
                    <a:pt x="21031" y="20972"/>
                  </a:lnTo>
                  <a:lnTo>
                    <a:pt x="0" y="16046"/>
                  </a:lnTo>
                  <a:close/>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 name="Arc 22"/>
            <p:cNvSpPr/>
            <p:nvPr/>
          </p:nvSpPr>
          <p:spPr>
            <a:xfrm rot="18900000">
              <a:off x="220320" y="922320"/>
              <a:ext cx="657360" cy="641520"/>
            </a:xfrm>
            <a:custGeom>
              <a:avLst/>
              <a:gdLst/>
              <a:ahLst/>
              <a:rect l="l" t="t" r="r" b="b"/>
              <a:pathLst>
                <a:path fill="none" w="19657" h="19195">
                  <a:moveTo>
                    <a:pt x="-1" y="10242"/>
                  </a:moveTo>
                  <a:cubicBezTo>
                    <a:pt x="2008" y="5830"/>
                    <a:pt x="5443" y="2223"/>
                    <a:pt x="9751" y="-1"/>
                  </a:cubicBezTo>
                </a:path>
                <a:path stroke="0" w="19657" h="19195">
                  <a:moveTo>
                    <a:pt x="-1" y="10242"/>
                  </a:moveTo>
                  <a:cubicBezTo>
                    <a:pt x="2008" y="5830"/>
                    <a:pt x="5443" y="2223"/>
                    <a:pt x="9751" y="-1"/>
                  </a:cubicBezTo>
                  <a:lnTo>
                    <a:pt x="19657" y="19195"/>
                  </a:lnTo>
                  <a:lnTo>
                    <a:pt x="-1" y="10242"/>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 name="Arc 23"/>
            <p:cNvSpPr/>
            <p:nvPr/>
          </p:nvSpPr>
          <p:spPr>
            <a:xfrm rot="18900000">
              <a:off x="312840" y="955800"/>
              <a:ext cx="573120" cy="569880"/>
            </a:xfrm>
            <a:custGeom>
              <a:avLst/>
              <a:gdLst/>
              <a:ahLst/>
              <a:rect l="l" t="t" r="r" b="b"/>
              <a:pathLst>
                <a:path fill="none" w="17137" h="17032">
                  <a:moveTo>
                    <a:pt x="0" y="3883"/>
                  </a:moveTo>
                  <a:cubicBezTo>
                    <a:pt x="1114" y="2430"/>
                    <a:pt x="2409" y="1125"/>
                    <a:pt x="3852" y="-1"/>
                  </a:cubicBezTo>
                </a:path>
                <a:path stroke="0" w="17137" h="17032">
                  <a:moveTo>
                    <a:pt x="0" y="3883"/>
                  </a:moveTo>
                  <a:cubicBezTo>
                    <a:pt x="1114" y="2430"/>
                    <a:pt x="2409" y="1125"/>
                    <a:pt x="3852" y="-1"/>
                  </a:cubicBezTo>
                  <a:lnTo>
                    <a:pt x="17137" y="17032"/>
                  </a:lnTo>
                  <a:lnTo>
                    <a:pt x="0" y="3883"/>
                  </a:lnTo>
                  <a:close/>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 name="Arc 24"/>
            <p:cNvSpPr/>
            <p:nvPr/>
          </p:nvSpPr>
          <p:spPr>
            <a:xfrm rot="18900000">
              <a:off x="617400" y="1066680"/>
              <a:ext cx="341280" cy="343080"/>
            </a:xfrm>
            <a:custGeom>
              <a:avLst/>
              <a:gdLst/>
              <a:ahLst/>
              <a:rect l="l" t="t" r="r" b="b"/>
              <a:pathLst>
                <a:path fill="none" w="21600" h="21600">
                  <a:moveTo>
                    <a:pt x="0" y="21500"/>
                  </a:moveTo>
                  <a:cubicBezTo>
                    <a:pt x="55" y="9609"/>
                    <a:pt x="9709" y="0"/>
                    <a:pt x="21599" y="0"/>
                  </a:cubicBezTo>
                </a:path>
                <a:path stroke="0" w="21600" h="21600">
                  <a:moveTo>
                    <a:pt x="0" y="21500"/>
                  </a:moveTo>
                  <a:cubicBezTo>
                    <a:pt x="55" y="9609"/>
                    <a:pt x="9709" y="0"/>
                    <a:pt x="21599" y="0"/>
                  </a:cubicBezTo>
                  <a:lnTo>
                    <a:pt x="21600" y="21600"/>
                  </a:lnTo>
                  <a:lnTo>
                    <a:pt x="0" y="2150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 name="Arc 25"/>
            <p:cNvSpPr/>
            <p:nvPr/>
          </p:nvSpPr>
          <p:spPr>
            <a:xfrm rot="18900000">
              <a:off x="150840" y="2119320"/>
              <a:ext cx="722160" cy="722160"/>
            </a:xfrm>
            <a:custGeom>
              <a:avLst/>
              <a:gdLst/>
              <a:ahLst/>
              <a:rect l="l" t="t" r="r" b="b"/>
              <a:pathLst>
                <a:path fill="none" w="21600" h="21600">
                  <a:moveTo>
                    <a:pt x="0" y="21553"/>
                  </a:moveTo>
                  <a:cubicBezTo>
                    <a:pt x="25" y="9642"/>
                    <a:pt x="9688" y="0"/>
                    <a:pt x="21599" y="0"/>
                  </a:cubicBezTo>
                </a:path>
                <a:path stroke="0" w="21600" h="21600">
                  <a:moveTo>
                    <a:pt x="0" y="21553"/>
                  </a:moveTo>
                  <a:cubicBezTo>
                    <a:pt x="25" y="9642"/>
                    <a:pt x="9688" y="0"/>
                    <a:pt x="21599" y="0"/>
                  </a:cubicBezTo>
                  <a:lnTo>
                    <a:pt x="21600" y="21600"/>
                  </a:lnTo>
                  <a:lnTo>
                    <a:pt x="0" y="21553"/>
                  </a:lnTo>
                  <a:close/>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 name="Arc 26"/>
            <p:cNvSpPr/>
            <p:nvPr/>
          </p:nvSpPr>
          <p:spPr>
            <a:xfrm rot="18900000">
              <a:off x="165240" y="2130120"/>
              <a:ext cx="703080" cy="701640"/>
            </a:xfrm>
            <a:custGeom>
              <a:avLst/>
              <a:gdLst/>
              <a:ahLst/>
              <a:rect l="l" t="t" r="r" b="b"/>
              <a:pathLst>
                <a:path fill="none" w="21031" h="20972">
                  <a:moveTo>
                    <a:pt x="0" y="16046"/>
                  </a:moveTo>
                  <a:cubicBezTo>
                    <a:pt x="1851" y="8142"/>
                    <a:pt x="7977" y="1943"/>
                    <a:pt x="15859" y="0"/>
                  </a:cubicBezTo>
                </a:path>
                <a:path stroke="0" w="21031" h="20972">
                  <a:moveTo>
                    <a:pt x="0" y="16046"/>
                  </a:moveTo>
                  <a:cubicBezTo>
                    <a:pt x="1851" y="8142"/>
                    <a:pt x="7977" y="1943"/>
                    <a:pt x="15859" y="0"/>
                  </a:cubicBezTo>
                  <a:lnTo>
                    <a:pt x="21031" y="20972"/>
                  </a:lnTo>
                  <a:lnTo>
                    <a:pt x="0" y="16046"/>
                  </a:lnTo>
                  <a:close/>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 name="Arc 27"/>
            <p:cNvSpPr/>
            <p:nvPr/>
          </p:nvSpPr>
          <p:spPr>
            <a:xfrm rot="18900000">
              <a:off x="229680" y="2163600"/>
              <a:ext cx="657360" cy="641520"/>
            </a:xfrm>
            <a:custGeom>
              <a:avLst/>
              <a:gdLst/>
              <a:ahLst/>
              <a:rect l="l" t="t" r="r" b="b"/>
              <a:pathLst>
                <a:path fill="none" w="19657" h="19195">
                  <a:moveTo>
                    <a:pt x="-1" y="10242"/>
                  </a:moveTo>
                  <a:cubicBezTo>
                    <a:pt x="2008" y="5830"/>
                    <a:pt x="5443" y="2223"/>
                    <a:pt x="9751" y="-1"/>
                  </a:cubicBezTo>
                </a:path>
                <a:path stroke="0" w="19657" h="19195">
                  <a:moveTo>
                    <a:pt x="-1" y="10242"/>
                  </a:moveTo>
                  <a:cubicBezTo>
                    <a:pt x="2008" y="5830"/>
                    <a:pt x="5443" y="2223"/>
                    <a:pt x="9751" y="-1"/>
                  </a:cubicBezTo>
                  <a:lnTo>
                    <a:pt x="19657" y="19195"/>
                  </a:lnTo>
                  <a:lnTo>
                    <a:pt x="-1" y="10242"/>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 name="Arc 28"/>
            <p:cNvSpPr/>
            <p:nvPr/>
          </p:nvSpPr>
          <p:spPr>
            <a:xfrm rot="18900000">
              <a:off x="317520" y="2197080"/>
              <a:ext cx="573120" cy="569880"/>
            </a:xfrm>
            <a:custGeom>
              <a:avLst/>
              <a:gdLst/>
              <a:ahLst/>
              <a:rect l="l" t="t" r="r" b="b"/>
              <a:pathLst>
                <a:path fill="none" w="17137" h="17032">
                  <a:moveTo>
                    <a:pt x="0" y="3883"/>
                  </a:moveTo>
                  <a:cubicBezTo>
                    <a:pt x="1114" y="2430"/>
                    <a:pt x="2409" y="1125"/>
                    <a:pt x="3852" y="-1"/>
                  </a:cubicBezTo>
                </a:path>
                <a:path stroke="0" w="17137" h="17032">
                  <a:moveTo>
                    <a:pt x="0" y="3883"/>
                  </a:moveTo>
                  <a:cubicBezTo>
                    <a:pt x="1114" y="2430"/>
                    <a:pt x="2409" y="1125"/>
                    <a:pt x="3852" y="-1"/>
                  </a:cubicBezTo>
                  <a:lnTo>
                    <a:pt x="17137" y="17032"/>
                  </a:lnTo>
                  <a:lnTo>
                    <a:pt x="0" y="3883"/>
                  </a:lnTo>
                  <a:close/>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 name="Arc 29"/>
            <p:cNvSpPr/>
            <p:nvPr/>
          </p:nvSpPr>
          <p:spPr>
            <a:xfrm rot="18900000">
              <a:off x="617040" y="2308320"/>
              <a:ext cx="341280" cy="342720"/>
            </a:xfrm>
            <a:custGeom>
              <a:avLst/>
              <a:gdLst/>
              <a:ahLst/>
              <a:rect l="l" t="t" r="r" b="b"/>
              <a:pathLst>
                <a:path fill="none" w="21600" h="21600">
                  <a:moveTo>
                    <a:pt x="0" y="21500"/>
                  </a:moveTo>
                  <a:cubicBezTo>
                    <a:pt x="55" y="9609"/>
                    <a:pt x="9709" y="0"/>
                    <a:pt x="21599" y="0"/>
                  </a:cubicBezTo>
                </a:path>
                <a:path stroke="0" w="21600" h="21600">
                  <a:moveTo>
                    <a:pt x="0" y="21500"/>
                  </a:moveTo>
                  <a:cubicBezTo>
                    <a:pt x="55" y="9609"/>
                    <a:pt x="9709" y="0"/>
                    <a:pt x="21599" y="0"/>
                  </a:cubicBezTo>
                  <a:lnTo>
                    <a:pt x="21600" y="21600"/>
                  </a:lnTo>
                  <a:lnTo>
                    <a:pt x="0" y="2150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 name="Arc 30"/>
            <p:cNvSpPr/>
            <p:nvPr/>
          </p:nvSpPr>
          <p:spPr>
            <a:xfrm rot="2700000">
              <a:off x="540720" y="2751840"/>
              <a:ext cx="695160" cy="690480"/>
            </a:xfrm>
            <a:custGeom>
              <a:avLst/>
              <a:gdLst/>
              <a:ahLst/>
              <a:rect l="l" t="t" r="r" b="b"/>
              <a:pathLst>
                <a:path fill="none" w="20808" h="20673">
                  <a:moveTo>
                    <a:pt x="6259" y="-1"/>
                  </a:moveTo>
                  <a:cubicBezTo>
                    <a:pt x="13335" y="2142"/>
                    <a:pt x="18823" y="7754"/>
                    <a:pt x="20807" y="14877"/>
                  </a:cubicBezTo>
                </a:path>
                <a:path stroke="0" w="20808" h="20673">
                  <a:moveTo>
                    <a:pt x="6259" y="-1"/>
                  </a:moveTo>
                  <a:cubicBezTo>
                    <a:pt x="13335" y="2142"/>
                    <a:pt x="18823" y="7754"/>
                    <a:pt x="20807" y="14877"/>
                  </a:cubicBezTo>
                  <a:lnTo>
                    <a:pt x="0" y="20673"/>
                  </a:lnTo>
                  <a:lnTo>
                    <a:pt x="6259" y="-1"/>
                  </a:lnTo>
                  <a:close/>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 name="Arc 31"/>
            <p:cNvSpPr/>
            <p:nvPr/>
          </p:nvSpPr>
          <p:spPr>
            <a:xfrm rot="2700000">
              <a:off x="537840" y="2790360"/>
              <a:ext cx="650880" cy="635040"/>
            </a:xfrm>
            <a:custGeom>
              <a:avLst/>
              <a:gdLst/>
              <a:ahLst/>
              <a:rect l="l" t="t" r="r" b="b"/>
              <a:pathLst>
                <a:path fill="none" w="19469" h="18986">
                  <a:moveTo>
                    <a:pt x="10300" y="-1"/>
                  </a:moveTo>
                  <a:cubicBezTo>
                    <a:pt x="14293" y="2166"/>
                    <a:pt x="17501" y="5536"/>
                    <a:pt x="19469" y="9630"/>
                  </a:cubicBezTo>
                </a:path>
                <a:path stroke="0" w="19469" h="18986">
                  <a:moveTo>
                    <a:pt x="10300" y="-1"/>
                  </a:moveTo>
                  <a:cubicBezTo>
                    <a:pt x="14293" y="2166"/>
                    <a:pt x="17501" y="5536"/>
                    <a:pt x="19469" y="9630"/>
                  </a:cubicBezTo>
                  <a:lnTo>
                    <a:pt x="0" y="18986"/>
                  </a:lnTo>
                  <a:lnTo>
                    <a:pt x="10300" y="-1"/>
                  </a:lnTo>
                  <a:close/>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 name="Arc 32"/>
            <p:cNvSpPr/>
            <p:nvPr/>
          </p:nvSpPr>
          <p:spPr>
            <a:xfrm rot="2700000">
              <a:off x="534960" y="2819520"/>
              <a:ext cx="573120" cy="566640"/>
            </a:xfrm>
            <a:custGeom>
              <a:avLst/>
              <a:gdLst/>
              <a:ahLst/>
              <a:rect l="l" t="t" r="r" b="b"/>
              <a:pathLst>
                <a:path fill="none" w="17119" h="16950">
                  <a:moveTo>
                    <a:pt x="13388" y="0"/>
                  </a:moveTo>
                  <a:cubicBezTo>
                    <a:pt x="14782" y="1101"/>
                    <a:pt x="16035" y="2370"/>
                    <a:pt x="17118" y="3778"/>
                  </a:cubicBezTo>
                </a:path>
                <a:path stroke="0" w="17119" h="16950">
                  <a:moveTo>
                    <a:pt x="13388" y="0"/>
                  </a:moveTo>
                  <a:cubicBezTo>
                    <a:pt x="14782" y="1101"/>
                    <a:pt x="16035" y="2370"/>
                    <a:pt x="17118" y="3778"/>
                  </a:cubicBezTo>
                  <a:lnTo>
                    <a:pt x="0" y="16950"/>
                  </a:lnTo>
                  <a:lnTo>
                    <a:pt x="13388" y="0"/>
                  </a:lnTo>
                  <a:close/>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 name="Arc 33"/>
            <p:cNvSpPr/>
            <p:nvPr/>
          </p:nvSpPr>
          <p:spPr>
            <a:xfrm rot="2700000">
              <a:off x="465480" y="2926440"/>
              <a:ext cx="341280" cy="343080"/>
            </a:xfrm>
            <a:custGeom>
              <a:avLst/>
              <a:gdLst/>
              <a:ahLst/>
              <a:rect l="l" t="t" r="r" b="b"/>
              <a:pathLst>
                <a:path fill="none" w="21600" h="21600">
                  <a:moveTo>
                    <a:pt x="-1" y="0"/>
                  </a:moveTo>
                  <a:cubicBezTo>
                    <a:pt x="11890" y="0"/>
                    <a:pt x="21544" y="9609"/>
                    <a:pt x="21599" y="21500"/>
                  </a:cubicBezTo>
                </a:path>
                <a:path stroke="0" w="21600" h="21600">
                  <a:moveTo>
                    <a:pt x="-1" y="0"/>
                  </a:moveTo>
                  <a:cubicBezTo>
                    <a:pt x="11890" y="0"/>
                    <a:pt x="21544" y="9609"/>
                    <a:pt x="21599" y="21500"/>
                  </a:cubicBezTo>
                  <a:lnTo>
                    <a:pt x="0" y="21600"/>
                  </a:lnTo>
                  <a:lnTo>
                    <a:pt x="-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2" name="Arc 34"/>
            <p:cNvSpPr/>
            <p:nvPr/>
          </p:nvSpPr>
          <p:spPr>
            <a:xfrm rot="18900000">
              <a:off x="155520" y="3369960"/>
              <a:ext cx="722520" cy="722160"/>
            </a:xfrm>
            <a:custGeom>
              <a:avLst/>
              <a:gdLst/>
              <a:ahLst/>
              <a:rect l="l" t="t" r="r" b="b"/>
              <a:pathLst>
                <a:path fill="none" w="21600" h="21600">
                  <a:moveTo>
                    <a:pt x="0" y="21553"/>
                  </a:moveTo>
                  <a:cubicBezTo>
                    <a:pt x="25" y="9642"/>
                    <a:pt x="9688" y="0"/>
                    <a:pt x="21599" y="0"/>
                  </a:cubicBezTo>
                </a:path>
                <a:path stroke="0" w="21600" h="21600">
                  <a:moveTo>
                    <a:pt x="0" y="21553"/>
                  </a:moveTo>
                  <a:cubicBezTo>
                    <a:pt x="25" y="9642"/>
                    <a:pt x="9688" y="0"/>
                    <a:pt x="21599" y="0"/>
                  </a:cubicBezTo>
                  <a:lnTo>
                    <a:pt x="21600" y="21600"/>
                  </a:lnTo>
                  <a:lnTo>
                    <a:pt x="0" y="21553"/>
                  </a:lnTo>
                  <a:close/>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 name="Arc 35"/>
            <p:cNvSpPr/>
            <p:nvPr/>
          </p:nvSpPr>
          <p:spPr>
            <a:xfrm rot="18900000">
              <a:off x="178920" y="3381120"/>
              <a:ext cx="703440" cy="701640"/>
            </a:xfrm>
            <a:custGeom>
              <a:avLst/>
              <a:gdLst/>
              <a:ahLst/>
              <a:rect l="l" t="t" r="r" b="b"/>
              <a:pathLst>
                <a:path fill="none" w="21031" h="20972">
                  <a:moveTo>
                    <a:pt x="0" y="16046"/>
                  </a:moveTo>
                  <a:cubicBezTo>
                    <a:pt x="1851" y="8142"/>
                    <a:pt x="7977" y="1943"/>
                    <a:pt x="15859" y="0"/>
                  </a:cubicBezTo>
                </a:path>
                <a:path stroke="0" w="21031" h="20972">
                  <a:moveTo>
                    <a:pt x="0" y="16046"/>
                  </a:moveTo>
                  <a:cubicBezTo>
                    <a:pt x="1851" y="8142"/>
                    <a:pt x="7977" y="1943"/>
                    <a:pt x="15859" y="0"/>
                  </a:cubicBezTo>
                  <a:lnTo>
                    <a:pt x="21031" y="20972"/>
                  </a:lnTo>
                  <a:lnTo>
                    <a:pt x="0" y="16046"/>
                  </a:lnTo>
                  <a:close/>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4" name="Arc 36"/>
            <p:cNvSpPr/>
            <p:nvPr/>
          </p:nvSpPr>
          <p:spPr>
            <a:xfrm rot="18900000">
              <a:off x="234720" y="3414240"/>
              <a:ext cx="657000" cy="641520"/>
            </a:xfrm>
            <a:custGeom>
              <a:avLst/>
              <a:gdLst/>
              <a:ahLst/>
              <a:rect l="l" t="t" r="r" b="b"/>
              <a:pathLst>
                <a:path fill="none" w="19657" h="19195">
                  <a:moveTo>
                    <a:pt x="-1" y="10242"/>
                  </a:moveTo>
                  <a:cubicBezTo>
                    <a:pt x="2008" y="5830"/>
                    <a:pt x="5443" y="2223"/>
                    <a:pt x="9751" y="-1"/>
                  </a:cubicBezTo>
                </a:path>
                <a:path stroke="0" w="19657" h="19195">
                  <a:moveTo>
                    <a:pt x="-1" y="10242"/>
                  </a:moveTo>
                  <a:cubicBezTo>
                    <a:pt x="2008" y="5830"/>
                    <a:pt x="5443" y="2223"/>
                    <a:pt x="9751" y="-1"/>
                  </a:cubicBezTo>
                  <a:lnTo>
                    <a:pt x="19657" y="19195"/>
                  </a:lnTo>
                  <a:lnTo>
                    <a:pt x="-1" y="10242"/>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5" name="Arc 37"/>
            <p:cNvSpPr/>
            <p:nvPr/>
          </p:nvSpPr>
          <p:spPr>
            <a:xfrm rot="18900000">
              <a:off x="322200" y="3448080"/>
              <a:ext cx="573120" cy="569880"/>
            </a:xfrm>
            <a:custGeom>
              <a:avLst/>
              <a:gdLst/>
              <a:ahLst/>
              <a:rect l="l" t="t" r="r" b="b"/>
              <a:pathLst>
                <a:path fill="none" w="17137" h="17032">
                  <a:moveTo>
                    <a:pt x="0" y="3883"/>
                  </a:moveTo>
                  <a:cubicBezTo>
                    <a:pt x="1114" y="2430"/>
                    <a:pt x="2409" y="1125"/>
                    <a:pt x="3852" y="-1"/>
                  </a:cubicBezTo>
                </a:path>
                <a:path stroke="0" w="17137" h="17032">
                  <a:moveTo>
                    <a:pt x="0" y="3883"/>
                  </a:moveTo>
                  <a:cubicBezTo>
                    <a:pt x="1114" y="2430"/>
                    <a:pt x="2409" y="1125"/>
                    <a:pt x="3852" y="-1"/>
                  </a:cubicBezTo>
                  <a:lnTo>
                    <a:pt x="17137" y="17032"/>
                  </a:lnTo>
                  <a:lnTo>
                    <a:pt x="0" y="3883"/>
                  </a:lnTo>
                  <a:close/>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6" name="Arc 38"/>
            <p:cNvSpPr/>
            <p:nvPr/>
          </p:nvSpPr>
          <p:spPr>
            <a:xfrm rot="18900000">
              <a:off x="622080" y="3559320"/>
              <a:ext cx="341280" cy="342720"/>
            </a:xfrm>
            <a:custGeom>
              <a:avLst/>
              <a:gdLst/>
              <a:ahLst/>
              <a:rect l="l" t="t" r="r" b="b"/>
              <a:pathLst>
                <a:path fill="none" w="21600" h="21600">
                  <a:moveTo>
                    <a:pt x="0" y="21500"/>
                  </a:moveTo>
                  <a:cubicBezTo>
                    <a:pt x="55" y="9609"/>
                    <a:pt x="9709" y="0"/>
                    <a:pt x="21599" y="0"/>
                  </a:cubicBezTo>
                </a:path>
                <a:path stroke="0" w="21600" h="21600">
                  <a:moveTo>
                    <a:pt x="0" y="21500"/>
                  </a:moveTo>
                  <a:cubicBezTo>
                    <a:pt x="55" y="9609"/>
                    <a:pt x="9709" y="0"/>
                    <a:pt x="21599" y="0"/>
                  </a:cubicBezTo>
                  <a:lnTo>
                    <a:pt x="21600" y="21600"/>
                  </a:lnTo>
                  <a:lnTo>
                    <a:pt x="0" y="2150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7" name="Arc 39"/>
            <p:cNvSpPr/>
            <p:nvPr/>
          </p:nvSpPr>
          <p:spPr>
            <a:xfrm rot="18900000">
              <a:off x="150840" y="4626000"/>
              <a:ext cx="722160" cy="722160"/>
            </a:xfrm>
            <a:custGeom>
              <a:avLst/>
              <a:gdLst/>
              <a:ahLst/>
              <a:rect l="l" t="t" r="r" b="b"/>
              <a:pathLst>
                <a:path fill="none" w="21600" h="21600">
                  <a:moveTo>
                    <a:pt x="0" y="21553"/>
                  </a:moveTo>
                  <a:cubicBezTo>
                    <a:pt x="25" y="9642"/>
                    <a:pt x="9688" y="0"/>
                    <a:pt x="21599" y="0"/>
                  </a:cubicBezTo>
                </a:path>
                <a:path stroke="0" w="21600" h="21600">
                  <a:moveTo>
                    <a:pt x="0" y="21553"/>
                  </a:moveTo>
                  <a:cubicBezTo>
                    <a:pt x="25" y="9642"/>
                    <a:pt x="9688" y="0"/>
                    <a:pt x="21599" y="0"/>
                  </a:cubicBezTo>
                  <a:lnTo>
                    <a:pt x="21600" y="21600"/>
                  </a:lnTo>
                  <a:lnTo>
                    <a:pt x="0" y="21553"/>
                  </a:lnTo>
                  <a:close/>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8" name="Arc 40"/>
            <p:cNvSpPr/>
            <p:nvPr/>
          </p:nvSpPr>
          <p:spPr>
            <a:xfrm rot="18900000">
              <a:off x="165240" y="4636800"/>
              <a:ext cx="703080" cy="701640"/>
            </a:xfrm>
            <a:custGeom>
              <a:avLst/>
              <a:gdLst/>
              <a:ahLst/>
              <a:rect l="l" t="t" r="r" b="b"/>
              <a:pathLst>
                <a:path fill="none" w="21031" h="20972">
                  <a:moveTo>
                    <a:pt x="0" y="16046"/>
                  </a:moveTo>
                  <a:cubicBezTo>
                    <a:pt x="1851" y="8142"/>
                    <a:pt x="7977" y="1943"/>
                    <a:pt x="15859" y="0"/>
                  </a:cubicBezTo>
                </a:path>
                <a:path stroke="0" w="21031" h="20972">
                  <a:moveTo>
                    <a:pt x="0" y="16046"/>
                  </a:moveTo>
                  <a:cubicBezTo>
                    <a:pt x="1851" y="8142"/>
                    <a:pt x="7977" y="1943"/>
                    <a:pt x="15859" y="0"/>
                  </a:cubicBezTo>
                  <a:lnTo>
                    <a:pt x="21031" y="20972"/>
                  </a:lnTo>
                  <a:lnTo>
                    <a:pt x="0" y="16046"/>
                  </a:lnTo>
                  <a:close/>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9" name="Arc 41"/>
            <p:cNvSpPr/>
            <p:nvPr/>
          </p:nvSpPr>
          <p:spPr>
            <a:xfrm rot="18900000">
              <a:off x="229680" y="4670280"/>
              <a:ext cx="657360" cy="641520"/>
            </a:xfrm>
            <a:custGeom>
              <a:avLst/>
              <a:gdLst/>
              <a:ahLst/>
              <a:rect l="l" t="t" r="r" b="b"/>
              <a:pathLst>
                <a:path fill="none" w="19657" h="19195">
                  <a:moveTo>
                    <a:pt x="-1" y="10242"/>
                  </a:moveTo>
                  <a:cubicBezTo>
                    <a:pt x="2008" y="5830"/>
                    <a:pt x="5443" y="2223"/>
                    <a:pt x="9751" y="-1"/>
                  </a:cubicBezTo>
                </a:path>
                <a:path stroke="0" w="19657" h="19195">
                  <a:moveTo>
                    <a:pt x="-1" y="10242"/>
                  </a:moveTo>
                  <a:cubicBezTo>
                    <a:pt x="2008" y="5830"/>
                    <a:pt x="5443" y="2223"/>
                    <a:pt x="9751" y="-1"/>
                  </a:cubicBezTo>
                  <a:lnTo>
                    <a:pt x="19657" y="19195"/>
                  </a:lnTo>
                  <a:lnTo>
                    <a:pt x="-1" y="10242"/>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0" name="Arc 42"/>
            <p:cNvSpPr/>
            <p:nvPr/>
          </p:nvSpPr>
          <p:spPr>
            <a:xfrm rot="18900000">
              <a:off x="322200" y="4703760"/>
              <a:ext cx="573120" cy="569880"/>
            </a:xfrm>
            <a:custGeom>
              <a:avLst/>
              <a:gdLst/>
              <a:ahLst/>
              <a:rect l="l" t="t" r="r" b="b"/>
              <a:pathLst>
                <a:path fill="none" w="17137" h="17032">
                  <a:moveTo>
                    <a:pt x="0" y="3883"/>
                  </a:moveTo>
                  <a:cubicBezTo>
                    <a:pt x="1114" y="2430"/>
                    <a:pt x="2409" y="1125"/>
                    <a:pt x="3852" y="-1"/>
                  </a:cubicBezTo>
                </a:path>
                <a:path stroke="0" w="17137" h="17032">
                  <a:moveTo>
                    <a:pt x="0" y="3883"/>
                  </a:moveTo>
                  <a:cubicBezTo>
                    <a:pt x="1114" y="2430"/>
                    <a:pt x="2409" y="1125"/>
                    <a:pt x="3852" y="-1"/>
                  </a:cubicBezTo>
                  <a:lnTo>
                    <a:pt x="17137" y="17032"/>
                  </a:lnTo>
                  <a:lnTo>
                    <a:pt x="0" y="3883"/>
                  </a:lnTo>
                  <a:close/>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1" name="Arc 43"/>
            <p:cNvSpPr/>
            <p:nvPr/>
          </p:nvSpPr>
          <p:spPr>
            <a:xfrm rot="18900000">
              <a:off x="617040" y="4815000"/>
              <a:ext cx="341280" cy="342720"/>
            </a:xfrm>
            <a:custGeom>
              <a:avLst/>
              <a:gdLst/>
              <a:ahLst/>
              <a:rect l="l" t="t" r="r" b="b"/>
              <a:pathLst>
                <a:path fill="none" w="21600" h="21600">
                  <a:moveTo>
                    <a:pt x="0" y="21500"/>
                  </a:moveTo>
                  <a:cubicBezTo>
                    <a:pt x="55" y="9609"/>
                    <a:pt x="9709" y="0"/>
                    <a:pt x="21599" y="0"/>
                  </a:cubicBezTo>
                </a:path>
                <a:path stroke="0" w="21600" h="21600">
                  <a:moveTo>
                    <a:pt x="0" y="21500"/>
                  </a:moveTo>
                  <a:cubicBezTo>
                    <a:pt x="55" y="9609"/>
                    <a:pt x="9709" y="0"/>
                    <a:pt x="21599" y="0"/>
                  </a:cubicBezTo>
                  <a:lnTo>
                    <a:pt x="21600" y="21600"/>
                  </a:lnTo>
                  <a:lnTo>
                    <a:pt x="0" y="2150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2" name="Arc 44"/>
            <p:cNvSpPr/>
            <p:nvPr/>
          </p:nvSpPr>
          <p:spPr>
            <a:xfrm rot="2700000">
              <a:off x="540000" y="5253840"/>
              <a:ext cx="695520" cy="690480"/>
            </a:xfrm>
            <a:custGeom>
              <a:avLst/>
              <a:gdLst/>
              <a:ahLst/>
              <a:rect l="l" t="t" r="r" b="b"/>
              <a:pathLst>
                <a:path fill="none" w="20808" h="20673">
                  <a:moveTo>
                    <a:pt x="6259" y="-1"/>
                  </a:moveTo>
                  <a:cubicBezTo>
                    <a:pt x="13335" y="2142"/>
                    <a:pt x="18823" y="7754"/>
                    <a:pt x="20807" y="14877"/>
                  </a:cubicBezTo>
                </a:path>
                <a:path stroke="0" w="20808" h="20673">
                  <a:moveTo>
                    <a:pt x="6259" y="-1"/>
                  </a:moveTo>
                  <a:cubicBezTo>
                    <a:pt x="13335" y="2142"/>
                    <a:pt x="18823" y="7754"/>
                    <a:pt x="20807" y="14877"/>
                  </a:cubicBezTo>
                  <a:lnTo>
                    <a:pt x="0" y="20673"/>
                  </a:lnTo>
                  <a:lnTo>
                    <a:pt x="6259" y="-1"/>
                  </a:lnTo>
                  <a:close/>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3" name="Arc 45"/>
            <p:cNvSpPr/>
            <p:nvPr/>
          </p:nvSpPr>
          <p:spPr>
            <a:xfrm rot="2700000">
              <a:off x="537840" y="5292360"/>
              <a:ext cx="650880" cy="635040"/>
            </a:xfrm>
            <a:custGeom>
              <a:avLst/>
              <a:gdLst/>
              <a:ahLst/>
              <a:rect l="l" t="t" r="r" b="b"/>
              <a:pathLst>
                <a:path fill="none" w="19469" h="18986">
                  <a:moveTo>
                    <a:pt x="10300" y="-1"/>
                  </a:moveTo>
                  <a:cubicBezTo>
                    <a:pt x="14293" y="2166"/>
                    <a:pt x="17501" y="5536"/>
                    <a:pt x="19469" y="9630"/>
                  </a:cubicBezTo>
                </a:path>
                <a:path stroke="0" w="19469" h="18986">
                  <a:moveTo>
                    <a:pt x="10300" y="-1"/>
                  </a:moveTo>
                  <a:cubicBezTo>
                    <a:pt x="14293" y="2166"/>
                    <a:pt x="17501" y="5536"/>
                    <a:pt x="19469" y="9630"/>
                  </a:cubicBezTo>
                  <a:lnTo>
                    <a:pt x="0" y="18986"/>
                  </a:lnTo>
                  <a:lnTo>
                    <a:pt x="10300" y="-1"/>
                  </a:lnTo>
                  <a:close/>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4" name="Arc 46"/>
            <p:cNvSpPr/>
            <p:nvPr/>
          </p:nvSpPr>
          <p:spPr>
            <a:xfrm rot="2700000">
              <a:off x="530280" y="5320800"/>
              <a:ext cx="572760" cy="566640"/>
            </a:xfrm>
            <a:custGeom>
              <a:avLst/>
              <a:gdLst/>
              <a:ahLst/>
              <a:rect l="l" t="t" r="r" b="b"/>
              <a:pathLst>
                <a:path fill="none" w="17119" h="16950">
                  <a:moveTo>
                    <a:pt x="13388" y="0"/>
                  </a:moveTo>
                  <a:cubicBezTo>
                    <a:pt x="14782" y="1101"/>
                    <a:pt x="16035" y="2370"/>
                    <a:pt x="17118" y="3778"/>
                  </a:cubicBezTo>
                </a:path>
                <a:path stroke="0" w="17119" h="16950">
                  <a:moveTo>
                    <a:pt x="13388" y="0"/>
                  </a:moveTo>
                  <a:cubicBezTo>
                    <a:pt x="14782" y="1101"/>
                    <a:pt x="16035" y="2370"/>
                    <a:pt x="17118" y="3778"/>
                  </a:cubicBezTo>
                  <a:lnTo>
                    <a:pt x="0" y="16950"/>
                  </a:lnTo>
                  <a:lnTo>
                    <a:pt x="13388" y="0"/>
                  </a:lnTo>
                  <a:close/>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5" name="Arc 47"/>
            <p:cNvSpPr/>
            <p:nvPr/>
          </p:nvSpPr>
          <p:spPr>
            <a:xfrm rot="2700000">
              <a:off x="465480" y="5428080"/>
              <a:ext cx="341280" cy="343080"/>
            </a:xfrm>
            <a:custGeom>
              <a:avLst/>
              <a:gdLst/>
              <a:ahLst/>
              <a:rect l="l" t="t" r="r" b="b"/>
              <a:pathLst>
                <a:path fill="none" w="21600" h="21600">
                  <a:moveTo>
                    <a:pt x="-1" y="0"/>
                  </a:moveTo>
                  <a:cubicBezTo>
                    <a:pt x="11890" y="0"/>
                    <a:pt x="21544" y="9609"/>
                    <a:pt x="21599" y="21500"/>
                  </a:cubicBezTo>
                </a:path>
                <a:path stroke="0" w="21600" h="21600">
                  <a:moveTo>
                    <a:pt x="-1" y="0"/>
                  </a:moveTo>
                  <a:cubicBezTo>
                    <a:pt x="11890" y="0"/>
                    <a:pt x="21544" y="9609"/>
                    <a:pt x="21599" y="21500"/>
                  </a:cubicBezTo>
                  <a:lnTo>
                    <a:pt x="0" y="21600"/>
                  </a:lnTo>
                  <a:lnTo>
                    <a:pt x="-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6" name="Arc 48"/>
            <p:cNvSpPr/>
            <p:nvPr/>
          </p:nvSpPr>
          <p:spPr>
            <a:xfrm rot="18900000">
              <a:off x="150840" y="5872320"/>
              <a:ext cx="722160" cy="722160"/>
            </a:xfrm>
            <a:custGeom>
              <a:avLst/>
              <a:gdLst/>
              <a:ahLst/>
              <a:rect l="l" t="t" r="r" b="b"/>
              <a:pathLst>
                <a:path fill="none" w="21600" h="21600">
                  <a:moveTo>
                    <a:pt x="0" y="21553"/>
                  </a:moveTo>
                  <a:cubicBezTo>
                    <a:pt x="25" y="9642"/>
                    <a:pt x="9688" y="0"/>
                    <a:pt x="21599" y="0"/>
                  </a:cubicBezTo>
                </a:path>
                <a:path stroke="0" w="21600" h="21600">
                  <a:moveTo>
                    <a:pt x="0" y="21553"/>
                  </a:moveTo>
                  <a:cubicBezTo>
                    <a:pt x="25" y="9642"/>
                    <a:pt x="9688" y="0"/>
                    <a:pt x="21599" y="0"/>
                  </a:cubicBezTo>
                  <a:lnTo>
                    <a:pt x="21600" y="21600"/>
                  </a:lnTo>
                  <a:lnTo>
                    <a:pt x="0" y="21553"/>
                  </a:lnTo>
                  <a:close/>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7" name="Arc 49"/>
            <p:cNvSpPr/>
            <p:nvPr/>
          </p:nvSpPr>
          <p:spPr>
            <a:xfrm rot="18900000">
              <a:off x="164880" y="5882760"/>
              <a:ext cx="703080" cy="702000"/>
            </a:xfrm>
            <a:custGeom>
              <a:avLst/>
              <a:gdLst/>
              <a:ahLst/>
              <a:rect l="l" t="t" r="r" b="b"/>
              <a:pathLst>
                <a:path fill="none" w="21031" h="20972">
                  <a:moveTo>
                    <a:pt x="0" y="16046"/>
                  </a:moveTo>
                  <a:cubicBezTo>
                    <a:pt x="1851" y="8142"/>
                    <a:pt x="7977" y="1943"/>
                    <a:pt x="15859" y="0"/>
                  </a:cubicBezTo>
                </a:path>
                <a:path stroke="0" w="21031" h="20972">
                  <a:moveTo>
                    <a:pt x="0" y="16046"/>
                  </a:moveTo>
                  <a:cubicBezTo>
                    <a:pt x="1851" y="8142"/>
                    <a:pt x="7977" y="1943"/>
                    <a:pt x="15859" y="0"/>
                  </a:cubicBezTo>
                  <a:lnTo>
                    <a:pt x="21031" y="20972"/>
                  </a:lnTo>
                  <a:lnTo>
                    <a:pt x="0" y="16046"/>
                  </a:lnTo>
                  <a:close/>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50"/>
            <p:cNvSpPr/>
            <p:nvPr/>
          </p:nvSpPr>
          <p:spPr>
            <a:xfrm rot="18900000">
              <a:off x="229680" y="5916600"/>
              <a:ext cx="657360" cy="641520"/>
            </a:xfrm>
            <a:custGeom>
              <a:avLst/>
              <a:gdLst/>
              <a:ahLst/>
              <a:rect l="l" t="t" r="r" b="b"/>
              <a:pathLst>
                <a:path fill="none" w="19657" h="19195">
                  <a:moveTo>
                    <a:pt x="-1" y="10242"/>
                  </a:moveTo>
                  <a:cubicBezTo>
                    <a:pt x="2008" y="5830"/>
                    <a:pt x="5443" y="2223"/>
                    <a:pt x="9751" y="-1"/>
                  </a:cubicBezTo>
                </a:path>
                <a:path stroke="0" w="19657" h="19195">
                  <a:moveTo>
                    <a:pt x="-1" y="10242"/>
                  </a:moveTo>
                  <a:cubicBezTo>
                    <a:pt x="2008" y="5830"/>
                    <a:pt x="5443" y="2223"/>
                    <a:pt x="9751" y="-1"/>
                  </a:cubicBezTo>
                  <a:lnTo>
                    <a:pt x="19657" y="19195"/>
                  </a:lnTo>
                  <a:lnTo>
                    <a:pt x="-1" y="10242"/>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1"/>
            <p:cNvSpPr/>
            <p:nvPr/>
          </p:nvSpPr>
          <p:spPr>
            <a:xfrm rot="18900000">
              <a:off x="317520" y="5950080"/>
              <a:ext cx="573120" cy="569880"/>
            </a:xfrm>
            <a:custGeom>
              <a:avLst/>
              <a:gdLst/>
              <a:ahLst/>
              <a:rect l="l" t="t" r="r" b="b"/>
              <a:pathLst>
                <a:path fill="none" w="17137" h="17032">
                  <a:moveTo>
                    <a:pt x="0" y="3883"/>
                  </a:moveTo>
                  <a:cubicBezTo>
                    <a:pt x="1114" y="2430"/>
                    <a:pt x="2409" y="1125"/>
                    <a:pt x="3852" y="-1"/>
                  </a:cubicBezTo>
                </a:path>
                <a:path stroke="0" w="17137" h="17032">
                  <a:moveTo>
                    <a:pt x="0" y="3883"/>
                  </a:moveTo>
                  <a:cubicBezTo>
                    <a:pt x="1114" y="2430"/>
                    <a:pt x="2409" y="1125"/>
                    <a:pt x="3852" y="-1"/>
                  </a:cubicBezTo>
                  <a:lnTo>
                    <a:pt x="17137" y="17032"/>
                  </a:lnTo>
                  <a:lnTo>
                    <a:pt x="0" y="3883"/>
                  </a:lnTo>
                  <a:close/>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rc 52"/>
            <p:cNvSpPr/>
            <p:nvPr/>
          </p:nvSpPr>
          <p:spPr>
            <a:xfrm rot="18900000">
              <a:off x="617400" y="6060960"/>
              <a:ext cx="341280" cy="343080"/>
            </a:xfrm>
            <a:custGeom>
              <a:avLst/>
              <a:gdLst/>
              <a:ahLst/>
              <a:rect l="l" t="t" r="r" b="b"/>
              <a:pathLst>
                <a:path fill="none" w="21600" h="21600">
                  <a:moveTo>
                    <a:pt x="0" y="21500"/>
                  </a:moveTo>
                  <a:cubicBezTo>
                    <a:pt x="55" y="9609"/>
                    <a:pt x="9709" y="0"/>
                    <a:pt x="21599" y="0"/>
                  </a:cubicBezTo>
                </a:path>
                <a:path stroke="0" w="21600" h="21600">
                  <a:moveTo>
                    <a:pt x="0" y="21500"/>
                  </a:moveTo>
                  <a:cubicBezTo>
                    <a:pt x="55" y="9609"/>
                    <a:pt x="9709" y="0"/>
                    <a:pt x="21599" y="0"/>
                  </a:cubicBezTo>
                  <a:lnTo>
                    <a:pt x="21600" y="21600"/>
                  </a:lnTo>
                  <a:lnTo>
                    <a:pt x="0" y="2150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Click to edit the title text format</a:t>
            </a:r>
            <a:endParaRPr b="0" i="1" lang="en-US" sz="4400" spc="-1" strike="noStrike">
              <a:solidFill>
                <a:srgbClr val="ffcc00"/>
              </a:solidFill>
              <a:latin typeface="Times New Roman"/>
            </a:endParaRPr>
          </a:p>
        </p:txBody>
      </p:sp>
      <p:sp>
        <p:nvSpPr>
          <p:cNvPr id="52" name="PlaceHolder 2"/>
          <p:cNvSpPr>
            <a:spLocks noGrp="1"/>
          </p:cNvSpPr>
          <p:nvPr>
            <p:ph type="body"/>
          </p:nvPr>
        </p:nvSpPr>
        <p:spPr>
          <a:xfrm>
            <a:off x="125244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1"/>
          </p:nvPr>
        </p:nvSpPr>
        <p:spPr>
          <a:xfrm>
            <a:off x="125244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2"/>
          </p:nvPr>
        </p:nvSpPr>
        <p:spPr>
          <a:xfrm>
            <a:off x="369072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3"/>
          </p:nvPr>
        </p:nvSpPr>
        <p:spPr>
          <a:xfrm>
            <a:off x="7119720" y="624852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75006-2940-4D90-8EFB-CDBDBF90FA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2" name="Group 2"/>
          <p:cNvGrpSpPr/>
          <p:nvPr/>
        </p:nvGrpSpPr>
        <p:grpSpPr>
          <a:xfrm>
            <a:off x="1054080" y="-1427040"/>
            <a:ext cx="7039440" cy="7203960"/>
            <a:chOff x="1054080" y="-1427040"/>
            <a:chExt cx="7039440" cy="7203960"/>
          </a:xfrm>
        </p:grpSpPr>
        <p:sp>
          <p:nvSpPr>
            <p:cNvPr id="93" name="Arc 3"/>
            <p:cNvSpPr/>
            <p:nvPr/>
          </p:nvSpPr>
          <p:spPr>
            <a:xfrm rot="18900000">
              <a:off x="2084400" y="-395280"/>
              <a:ext cx="4978440" cy="4976640"/>
            </a:xfrm>
            <a:custGeom>
              <a:avLst/>
              <a:gdLst/>
              <a:ahLst/>
              <a:rect l="l" t="t" r="r" b="b"/>
              <a:pathLst>
                <a:path fill="none" w="21607" h="21600">
                  <a:moveTo>
                    <a:pt x="0" y="0"/>
                  </a:moveTo>
                  <a:cubicBezTo>
                    <a:pt x="2" y="0"/>
                    <a:pt x="4" y="-1"/>
                    <a:pt x="7" y="0"/>
                  </a:cubicBezTo>
                  <a:cubicBezTo>
                    <a:pt x="11933" y="0"/>
                    <a:pt x="21603" y="9666"/>
                    <a:pt x="21606" y="21593"/>
                  </a:cubicBezTo>
                </a:path>
                <a:path stroke="0" w="21607" h="21600">
                  <a:moveTo>
                    <a:pt x="0" y="0"/>
                  </a:moveTo>
                  <a:cubicBezTo>
                    <a:pt x="2" y="0"/>
                    <a:pt x="4" y="-1"/>
                    <a:pt x="7" y="0"/>
                  </a:cubicBezTo>
                  <a:cubicBezTo>
                    <a:pt x="11933" y="0"/>
                    <a:pt x="21603" y="9666"/>
                    <a:pt x="21606" y="21593"/>
                  </a:cubicBezTo>
                  <a:lnTo>
                    <a:pt x="7" y="21600"/>
                  </a:lnTo>
                  <a:lnTo>
                    <a:pt x="0" y="0"/>
                  </a:lnTo>
                  <a:close/>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4" name="Arc 4"/>
            <p:cNvSpPr/>
            <p:nvPr/>
          </p:nvSpPr>
          <p:spPr>
            <a:xfrm rot="18900000">
              <a:off x="2141640" y="-257040"/>
              <a:ext cx="4821120" cy="4851360"/>
            </a:xfrm>
            <a:custGeom>
              <a:avLst/>
              <a:gdLst/>
              <a:ahLst/>
              <a:rect l="l" t="t" r="r" b="b"/>
              <a:pathLst>
                <a:path fill="none" w="20922" h="21053">
                  <a:moveTo>
                    <a:pt x="4830" y="0"/>
                  </a:moveTo>
                  <a:cubicBezTo>
                    <a:pt x="12706" y="1807"/>
                    <a:pt x="18914" y="7858"/>
                    <a:pt x="20922" y="15684"/>
                  </a:cubicBezTo>
                </a:path>
                <a:path stroke="0" w="20922" h="21053">
                  <a:moveTo>
                    <a:pt x="4830" y="0"/>
                  </a:moveTo>
                  <a:cubicBezTo>
                    <a:pt x="12706" y="1807"/>
                    <a:pt x="18914" y="7858"/>
                    <a:pt x="20922" y="15684"/>
                  </a:cubicBezTo>
                  <a:lnTo>
                    <a:pt x="0" y="21053"/>
                  </a:lnTo>
                  <a:lnTo>
                    <a:pt x="4830" y="0"/>
                  </a:lnTo>
                  <a:close/>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5" name="Arc 5"/>
            <p:cNvSpPr/>
            <p:nvPr/>
          </p:nvSpPr>
          <p:spPr>
            <a:xfrm rot="18900000">
              <a:off x="2339640" y="256680"/>
              <a:ext cx="4368600" cy="4432320"/>
            </a:xfrm>
            <a:custGeom>
              <a:avLst/>
              <a:gdLst/>
              <a:ahLst/>
              <a:rect l="l" t="t" r="r" b="b"/>
              <a:pathLst>
                <a:path fill="none" w="18966" h="19239">
                  <a:moveTo>
                    <a:pt x="9819" y="-1"/>
                  </a:moveTo>
                  <a:cubicBezTo>
                    <a:pt x="13695" y="1978"/>
                    <a:pt x="16883" y="5080"/>
                    <a:pt x="18965" y="8902"/>
                  </a:cubicBezTo>
                </a:path>
                <a:path stroke="0" w="18966" h="19239">
                  <a:moveTo>
                    <a:pt x="9819" y="-1"/>
                  </a:moveTo>
                  <a:cubicBezTo>
                    <a:pt x="13695" y="1978"/>
                    <a:pt x="16883" y="5080"/>
                    <a:pt x="18965" y="8902"/>
                  </a:cubicBezTo>
                  <a:lnTo>
                    <a:pt x="0" y="19239"/>
                  </a:lnTo>
                  <a:lnTo>
                    <a:pt x="9819" y="-1"/>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6" name="Arc 6"/>
            <p:cNvSpPr/>
            <p:nvPr/>
          </p:nvSpPr>
          <p:spPr>
            <a:xfrm rot="18900000">
              <a:off x="2663640" y="809280"/>
              <a:ext cx="3860640" cy="3965400"/>
            </a:xfrm>
            <a:custGeom>
              <a:avLst/>
              <a:gdLst/>
              <a:ahLst/>
              <a:rect l="l" t="t" r="r" b="b"/>
              <a:pathLst>
                <a:path fill="none" w="16754" h="17212">
                  <a:moveTo>
                    <a:pt x="13050" y="-1"/>
                  </a:moveTo>
                  <a:cubicBezTo>
                    <a:pt x="14423" y="1040"/>
                    <a:pt x="15666" y="2242"/>
                    <a:pt x="16754" y="3578"/>
                  </a:cubicBezTo>
                </a:path>
                <a:path stroke="0" w="16754" h="17212">
                  <a:moveTo>
                    <a:pt x="13050" y="-1"/>
                  </a:moveTo>
                  <a:cubicBezTo>
                    <a:pt x="14423" y="1040"/>
                    <a:pt x="15666" y="2242"/>
                    <a:pt x="16754" y="3578"/>
                  </a:cubicBezTo>
                  <a:lnTo>
                    <a:pt x="0" y="17212"/>
                  </a:lnTo>
                  <a:lnTo>
                    <a:pt x="13050" y="-1"/>
                  </a:lnTo>
                  <a:close/>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7" name="Arc 7"/>
            <p:cNvSpPr/>
            <p:nvPr/>
          </p:nvSpPr>
          <p:spPr>
            <a:xfrm rot="18900000">
              <a:off x="2295360" y="90000"/>
              <a:ext cx="4604040" cy="46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ff7c8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8" name="Arc 8"/>
            <p:cNvSpPr/>
            <p:nvPr/>
          </p:nvSpPr>
          <p:spPr>
            <a:xfrm rot="18900000">
              <a:off x="2346480" y="217080"/>
              <a:ext cx="4458960" cy="4486320"/>
            </a:xfrm>
            <a:custGeom>
              <a:avLst/>
              <a:gdLst/>
              <a:ahLst/>
              <a:rect l="l" t="t" r="r" b="b"/>
              <a:pathLst>
                <a:path fill="none" w="20924" h="21052">
                  <a:moveTo>
                    <a:pt x="4833" y="-1"/>
                  </a:moveTo>
                  <a:cubicBezTo>
                    <a:pt x="12709" y="1807"/>
                    <a:pt x="18917" y="7861"/>
                    <a:pt x="20923" y="15689"/>
                  </a:cubicBezTo>
                </a:path>
                <a:path stroke="0" w="20924" h="21052">
                  <a:moveTo>
                    <a:pt x="4833" y="-1"/>
                  </a:moveTo>
                  <a:cubicBezTo>
                    <a:pt x="12709" y="1807"/>
                    <a:pt x="18917" y="7861"/>
                    <a:pt x="20923" y="15689"/>
                  </a:cubicBezTo>
                  <a:lnTo>
                    <a:pt x="0" y="21052"/>
                  </a:lnTo>
                  <a:lnTo>
                    <a:pt x="4833" y="-1"/>
                  </a:lnTo>
                  <a:close/>
                </a:path>
              </a:pathLst>
            </a:cu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9" name="Arc 9"/>
            <p:cNvSpPr/>
            <p:nvPr/>
          </p:nvSpPr>
          <p:spPr>
            <a:xfrm rot="18900000">
              <a:off x="2552760" y="677520"/>
              <a:ext cx="4043160" cy="4100400"/>
            </a:xfrm>
            <a:custGeom>
              <a:avLst/>
              <a:gdLst/>
              <a:ahLst/>
              <a:rect l="l" t="t" r="r" b="b"/>
              <a:pathLst>
                <a:path fill="none" w="18970" h="19237">
                  <a:moveTo>
                    <a:pt x="9823" y="-1"/>
                  </a:moveTo>
                  <a:cubicBezTo>
                    <a:pt x="13699" y="1979"/>
                    <a:pt x="16888" y="5084"/>
                    <a:pt x="18969" y="8907"/>
                  </a:cubicBezTo>
                </a:path>
                <a:path stroke="0" w="18970" h="19237">
                  <a:moveTo>
                    <a:pt x="9823" y="-1"/>
                  </a:moveTo>
                  <a:cubicBezTo>
                    <a:pt x="13699" y="1979"/>
                    <a:pt x="16888" y="5084"/>
                    <a:pt x="18969" y="8907"/>
                  </a:cubicBezTo>
                  <a:lnTo>
                    <a:pt x="0" y="19237"/>
                  </a:lnTo>
                  <a:lnTo>
                    <a:pt x="9823" y="-1"/>
                  </a:lnTo>
                  <a:close/>
                </a:path>
              </a:pathLst>
            </a:custGeom>
            <a:gradFill rotWithShape="0">
              <a:gsLst>
                <a:gs pos="0">
                  <a:srgbClr val="ff33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0" name="Arc 10"/>
            <p:cNvSpPr/>
            <p:nvPr/>
          </p:nvSpPr>
          <p:spPr>
            <a:xfrm rot="18900000">
              <a:off x="2830320" y="1188720"/>
              <a:ext cx="3570120" cy="3668760"/>
            </a:xfrm>
            <a:custGeom>
              <a:avLst/>
              <a:gdLst/>
              <a:ahLst/>
              <a:rect l="l" t="t" r="r" b="b"/>
              <a:pathLst>
                <a:path fill="none" w="16754" h="17213">
                  <a:moveTo>
                    <a:pt x="13048" y="0"/>
                  </a:moveTo>
                  <a:cubicBezTo>
                    <a:pt x="14422" y="1041"/>
                    <a:pt x="15666" y="2243"/>
                    <a:pt x="16754" y="3579"/>
                  </a:cubicBezTo>
                </a:path>
                <a:path stroke="0" w="16754" h="17213">
                  <a:moveTo>
                    <a:pt x="13048" y="0"/>
                  </a:moveTo>
                  <a:cubicBezTo>
                    <a:pt x="14422" y="1041"/>
                    <a:pt x="15666" y="2243"/>
                    <a:pt x="16754" y="3579"/>
                  </a:cubicBezTo>
                  <a:lnTo>
                    <a:pt x="0" y="17213"/>
                  </a:lnTo>
                  <a:lnTo>
                    <a:pt x="13048" y="0"/>
                  </a:lnTo>
                  <a:close/>
                </a:path>
              </a:pathLst>
            </a:custGeom>
            <a:gradFill rotWithShape="0">
              <a:gsLst>
                <a:gs pos="0">
                  <a:srgbClr val="9900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1" name="Arc 11"/>
            <p:cNvSpPr/>
            <p:nvPr/>
          </p:nvSpPr>
          <p:spPr>
            <a:xfrm rot="18900000">
              <a:off x="3553920" y="3316320"/>
              <a:ext cx="2038320" cy="2038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10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Click to edit the title text format</a:t>
            </a:r>
            <a:endParaRPr b="0" i="1" lang="en-US" sz="4400" spc="-1" strike="noStrike">
              <a:solidFill>
                <a:srgbClr val="ffcc00"/>
              </a:solidFill>
              <a:latin typeface="Times New Roman"/>
            </a:endParaRPr>
          </a:p>
        </p:txBody>
      </p:sp>
      <p:sp>
        <p:nvSpPr>
          <p:cNvPr id="103" name="PlaceHolder 2"/>
          <p:cNvSpPr>
            <a:spLocks noGrp="1"/>
          </p:cNvSpPr>
          <p:nvPr>
            <p:ph type="body"/>
          </p:nvPr>
        </p:nvSpPr>
        <p:spPr>
          <a:xfrm>
            <a:off x="125244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04" name="PlaceHolder 3"/>
          <p:cNvSpPr>
            <a:spLocks noGrp="1"/>
          </p:cNvSpPr>
          <p:nvPr>
            <p:ph type="dt" idx="4"/>
          </p:nvPr>
        </p:nvSpPr>
        <p:spPr>
          <a:xfrm>
            <a:off x="498240" y="936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5" name="PlaceHolder 4"/>
          <p:cNvSpPr>
            <a:spLocks noGrp="1"/>
          </p:cNvSpPr>
          <p:nvPr>
            <p:ph type="ftr" idx="5"/>
          </p:nvPr>
        </p:nvSpPr>
        <p:spPr>
          <a:xfrm>
            <a:off x="3124080" y="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6" name="PlaceHolder 5"/>
          <p:cNvSpPr>
            <a:spLocks noGrp="1"/>
          </p:cNvSpPr>
          <p:nvPr>
            <p:ph type="sldNum" idx="6"/>
          </p:nvPr>
        </p:nvSpPr>
        <p:spPr>
          <a:xfrm>
            <a:off x="6727680" y="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D707A-9220-47F3-A99D-E57EDB487C4B}"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iupui.edu/~engwft/bslide41l.JPG" TargetMode="Externa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The Caldecott Medal</a:t>
            </a:r>
            <a:endParaRPr b="0" i="1" lang="en-US" sz="4400" spc="-1" strike="noStrike">
              <a:solidFill>
                <a:srgbClr val="ffcc00"/>
              </a:solidFill>
              <a:latin typeface="Times New Roman"/>
            </a:endParaRPr>
          </a:p>
        </p:txBody>
      </p:sp>
      <p:sp>
        <p:nvSpPr>
          <p:cNvPr id="144" name=""/>
          <p:cNvSpPr txBox="1"/>
          <p:nvPr/>
        </p:nvSpPr>
        <p:spPr>
          <a:xfrm>
            <a:off x="1252440" y="1981080"/>
            <a:ext cx="7772400" cy="4114800"/>
          </a:xfrm>
          <a:prstGeom prst="rect">
            <a:avLst/>
          </a:prstGeom>
          <a:noFill/>
          <a:ln w="0">
            <a:noFill/>
          </a:ln>
        </p:spPr>
        <p:txBody>
          <a:bodyPr lIns="92160" rIns="92160" tIns="46080" bIns="46080" anchor="t">
            <a:normAutofit/>
          </a:bodyPr>
          <a:p>
            <a:pPr marL="343080" indent="-343080" algn="ctr">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gn="ctr">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gn="ctr">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esentation by Mrs. Hembree</a:t>
            </a:r>
            <a:endParaRPr b="0" lang="en-US" sz="3200" spc="-1" strike="noStrike">
              <a:solidFill>
                <a:srgbClr val="ffffcc"/>
              </a:solidFill>
              <a:latin typeface="Times New Roman"/>
            </a:endParaRPr>
          </a:p>
          <a:p>
            <a:pPr marL="343080" indent="-343080" algn="ctr">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dapted from a presentation by Jan Ross, LMS at Dixie Elementary School, Lexington, K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
          <p:cNvPicPr/>
          <p:nvPr/>
        </p:nvPicPr>
        <p:blipFill>
          <a:blip r:embed="rId1"/>
          <a:stretch/>
        </p:blipFill>
        <p:spPr>
          <a:xfrm>
            <a:off x="4648320" y="609480"/>
            <a:ext cx="4078080" cy="5413320"/>
          </a:xfrm>
          <a:prstGeom prst="rect">
            <a:avLst/>
          </a:prstGeom>
          <a:ln w="0">
            <a:noFill/>
          </a:ln>
        </p:spPr>
      </p:pic>
      <p:sp>
        <p:nvSpPr>
          <p:cNvPr id="174" name="TextBox 5"/>
          <p:cNvSpPr/>
          <p:nvPr/>
        </p:nvSpPr>
        <p:spPr>
          <a:xfrm>
            <a:off x="1295280" y="1523880"/>
            <a:ext cx="2743200" cy="2397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first Caldecott Medal was presented in 1938 to Dorothy Lathrop for her book, </a:t>
            </a:r>
            <a:r>
              <a:rPr b="0" i="1" lang="en-US" sz="2400" spc="-1" strike="noStrike">
                <a:solidFill>
                  <a:srgbClr val="ffffcc"/>
                </a:solidFill>
                <a:latin typeface="Times New Roman"/>
              </a:rPr>
              <a:t>Animals of the Bible</a:t>
            </a:r>
            <a:r>
              <a:rPr b="0" lang="en-US" sz="2400" spc="-1" strike="noStrike">
                <a:solidFill>
                  <a:srgbClr val="ffffcc"/>
                </a:solidFill>
                <a:latin typeface="Times New Roman"/>
              </a:rPr>
              <a:t>, </a:t>
            </a:r>
            <a:r>
              <a:rPr b="0" i="1" lang="en-US" sz="2400" spc="-1" strike="noStrike">
                <a:solidFill>
                  <a:srgbClr val="ffffcc"/>
                </a:solidFill>
                <a:latin typeface="Times New Roman"/>
              </a:rPr>
              <a:t>A Picture Book.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252440" y="1981080"/>
            <a:ext cx="3810240" cy="4114800"/>
          </a:xfrm>
          <a:prstGeom prst="rect">
            <a:avLst/>
          </a:prstGeom>
          <a:noFill/>
          <a:ln w="0">
            <a:noFill/>
          </a:ln>
        </p:spPr>
        <p:txBody>
          <a:bodyPr lIns="92160" rIns="92160" tIns="46080" bIns="46080" anchor="t">
            <a:normAutofit/>
          </a:bodyPr>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ome books each year were called “runners-up”.  In 1971, that term was changed to “honor</a:t>
            </a:r>
            <a:r>
              <a:rPr b="0" lang="en-US" sz="3600" spc="-1" strike="noStrike">
                <a:solidFill>
                  <a:srgbClr val="ffffcc"/>
                </a:solidFill>
                <a:latin typeface="Times New Roman"/>
              </a:rPr>
              <a:t> </a:t>
            </a:r>
            <a:r>
              <a:rPr b="0" lang="en-US" sz="2800" spc="-1" strike="noStrike">
                <a:solidFill>
                  <a:srgbClr val="ffffcc"/>
                </a:solidFill>
                <a:latin typeface="Times New Roman"/>
              </a:rPr>
              <a:t>books”.    These medals look like the award except they are silver instead of bronze.</a:t>
            </a:r>
            <a:endParaRPr b="0" lang="en-US" sz="2800" spc="-1" strike="noStrike">
              <a:solidFill>
                <a:srgbClr val="ffffcc"/>
              </a:solidFill>
              <a:latin typeface="Times New Roman"/>
            </a:endParaRPr>
          </a:p>
        </p:txBody>
      </p:sp>
      <p:pic>
        <p:nvPicPr>
          <p:cNvPr id="176" name="Picture 10" descr="Caldecott Honor Seal"/>
          <p:cNvPicPr/>
          <p:nvPr/>
        </p:nvPicPr>
        <p:blipFill>
          <a:blip r:embed="rId1"/>
          <a:stretch/>
        </p:blipFill>
        <p:spPr>
          <a:xfrm>
            <a:off x="5591160" y="220968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Honor Winners 2012</a:t>
            </a:r>
            <a:endParaRPr b="0" i="1" lang="en-US" sz="4400" spc="-1" strike="noStrike">
              <a:solidFill>
                <a:srgbClr val="ffcc00"/>
              </a:solidFill>
              <a:latin typeface="Times New Roman"/>
            </a:endParaRPr>
          </a:p>
        </p:txBody>
      </p:sp>
      <p:sp>
        <p:nvSpPr>
          <p:cNvPr id="178" name="PlaceHolder 2"/>
          <p:cNvSpPr>
            <a:spLocks noGrp="1"/>
          </p:cNvSpPr>
          <p:nvPr>
            <p:ph/>
          </p:nvPr>
        </p:nvSpPr>
        <p:spPr>
          <a:xfrm>
            <a:off x="1252440" y="1981080"/>
            <a:ext cx="3810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79" name="" descr=""/>
          <p:cNvPicPr/>
          <p:nvPr/>
        </p:nvPicPr>
        <p:blipFill>
          <a:blip r:embed="rId1"/>
          <a:stretch/>
        </p:blipFill>
        <p:spPr>
          <a:xfrm>
            <a:off x="5214600" y="1981080"/>
            <a:ext cx="3809880" cy="4114800"/>
          </a:xfrm>
          <a:prstGeom prst="rect">
            <a:avLst/>
          </a:prstGeom>
          <a:ln w="0">
            <a:noFill/>
          </a:ln>
        </p:spPr>
      </p:pic>
      <p:pic>
        <p:nvPicPr>
          <p:cNvPr id="180" name="Picture 2" descr=""/>
          <p:cNvPicPr/>
          <p:nvPr/>
        </p:nvPicPr>
        <p:blipFill>
          <a:blip r:embed="rId2"/>
          <a:stretch/>
        </p:blipFill>
        <p:spPr>
          <a:xfrm>
            <a:off x="1447920" y="1693800"/>
            <a:ext cx="2361960" cy="2149560"/>
          </a:xfrm>
          <a:prstGeom prst="rect">
            <a:avLst/>
          </a:prstGeom>
          <a:ln w="0">
            <a:noFill/>
          </a:ln>
        </p:spPr>
      </p:pic>
      <p:pic>
        <p:nvPicPr>
          <p:cNvPr id="181" name="Picture 3" descr=""/>
          <p:cNvPicPr/>
          <p:nvPr/>
        </p:nvPicPr>
        <p:blipFill>
          <a:blip r:embed="rId3"/>
          <a:stretch/>
        </p:blipFill>
        <p:spPr>
          <a:xfrm>
            <a:off x="4038480" y="3733920"/>
            <a:ext cx="1986120" cy="2377800"/>
          </a:xfrm>
          <a:prstGeom prst="rect">
            <a:avLst/>
          </a:prstGeom>
          <a:ln w="0">
            <a:noFill/>
          </a:ln>
        </p:spPr>
      </p:pic>
      <p:pic>
        <p:nvPicPr>
          <p:cNvPr id="182" name="Picture 4" descr=""/>
          <p:cNvPicPr/>
          <p:nvPr/>
        </p:nvPicPr>
        <p:blipFill>
          <a:blip r:embed="rId4"/>
          <a:stretch/>
        </p:blipFill>
        <p:spPr>
          <a:xfrm>
            <a:off x="6024600" y="1622520"/>
            <a:ext cx="2795400" cy="2111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252440" y="1980720"/>
            <a:ext cx="3929040" cy="4496040"/>
          </a:xfrm>
          <a:prstGeom prst="rect">
            <a:avLst/>
          </a:prstGeom>
          <a:noFill/>
          <a:ln w="0">
            <a:noFill/>
          </a:ln>
        </p:spPr>
        <p:txBody>
          <a:bodyPr lIns="92160" rIns="92160" tIns="46080" bIns="46080" anchor="t">
            <a:normAutofit/>
          </a:bodyPr>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ow, let’s talk about some books that have won the Caldecott Medal.  If you would like to check one of these books out or another book which has won the medal, check with Mrs. Hembree</a:t>
            </a:r>
            <a:endParaRPr b="0" lang="en-US" sz="2800" spc="-1" strike="noStrike">
              <a:solidFill>
                <a:srgbClr val="ffffcc"/>
              </a:solidFill>
              <a:latin typeface="Times New Roman"/>
            </a:endParaRPr>
          </a:p>
        </p:txBody>
      </p:sp>
      <p:pic>
        <p:nvPicPr>
          <p:cNvPr id="184" name="Picture 6" descr="The_Man_Who_Walked_Between_the_Towers"/>
          <p:cNvPicPr/>
          <p:nvPr/>
        </p:nvPicPr>
        <p:blipFill>
          <a:blip r:embed="rId1"/>
          <a:stretch/>
        </p:blipFill>
        <p:spPr>
          <a:xfrm>
            <a:off x="5791320" y="533520"/>
            <a:ext cx="2286000" cy="2286000"/>
          </a:xfrm>
          <a:prstGeom prst="rect">
            <a:avLst/>
          </a:prstGeom>
          <a:ln w="0">
            <a:noFill/>
          </a:ln>
        </p:spPr>
      </p:pic>
      <p:sp>
        <p:nvSpPr>
          <p:cNvPr id="185" name="Text Box 7"/>
          <p:cNvSpPr/>
          <p:nvPr/>
        </p:nvSpPr>
        <p:spPr>
          <a:xfrm>
            <a:off x="5486400" y="2971800"/>
            <a:ext cx="3657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The Man Who Walked Between the Towers”, by Mordicai Gerstein, won the Caldecott Medal in 2004.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87" name=""/>
          <p:cNvSpPr txBox="1"/>
          <p:nvPr/>
        </p:nvSpPr>
        <p:spPr>
          <a:xfrm>
            <a:off x="1252440" y="1981080"/>
            <a:ext cx="3810240" cy="4114800"/>
          </a:xfrm>
          <a:prstGeom prst="rect">
            <a:avLst/>
          </a:prstGeom>
          <a:noFill/>
          <a:ln w="0">
            <a:noFill/>
          </a:ln>
        </p:spPr>
        <p:txBody>
          <a:bodyPr lIns="92160" rIns="92160" tIns="46080" bIns="46080" anchor="t">
            <a:normAutofit/>
          </a:bodyPr>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l of the winners are pictured on the poster on the side window.</a:t>
            </a:r>
            <a:endParaRPr b="0" lang="en-US" sz="2800" spc="-1" strike="noStrike">
              <a:solidFill>
                <a:srgbClr val="ffffcc"/>
              </a:solidFill>
              <a:latin typeface="Times New Roman"/>
            </a:endParaRPr>
          </a:p>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 am doing the Caldecott Challenge and reading all of the Medal winners this year!</a:t>
            </a:r>
            <a:endParaRPr b="0" lang="en-US" sz="2800" spc="-1" strike="noStrike">
              <a:solidFill>
                <a:srgbClr val="ffffcc"/>
              </a:solidFill>
              <a:latin typeface="Times New Roman"/>
            </a:endParaRPr>
          </a:p>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pic>
        <p:nvPicPr>
          <p:cNvPr id="188" name="Content Placeholder 7" descr="IMG_1859.JPG"/>
          <p:cNvPicPr/>
          <p:nvPr/>
        </p:nvPicPr>
        <p:blipFill>
          <a:blip r:embed="rId1"/>
          <a:stretch/>
        </p:blipFill>
        <p:spPr>
          <a:xfrm>
            <a:off x="4876920" y="1981080"/>
            <a:ext cx="3727440" cy="3733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90" name=""/>
          <p:cNvSpPr txBox="1"/>
          <p:nvPr/>
        </p:nvSpPr>
        <p:spPr>
          <a:xfrm>
            <a:off x="1252440" y="1981080"/>
            <a:ext cx="3810240" cy="4114800"/>
          </a:xfrm>
          <a:prstGeom prst="rect">
            <a:avLst/>
          </a:prstGeom>
          <a:noFill/>
          <a:ln w="0">
            <a:noFill/>
          </a:ln>
        </p:spPr>
        <p:txBody>
          <a:bodyPr lIns="92160" rIns="92160" tIns="46080" bIns="46080" anchor="t">
            <a:normAutofit/>
          </a:bodyPr>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 2008, Brian Selznick won for his book, </a:t>
            </a:r>
            <a:r>
              <a:rPr b="0" i="1" lang="en-US" sz="2800" spc="-1" strike="noStrike">
                <a:solidFill>
                  <a:srgbClr val="ffffcc"/>
                </a:solidFill>
                <a:latin typeface="Times New Roman"/>
              </a:rPr>
              <a:t>The Invention of Hugo Cabret</a:t>
            </a:r>
            <a:r>
              <a:rPr b="0" lang="en-US" sz="2800" spc="-1" strike="noStrike">
                <a:solidFill>
                  <a:srgbClr val="ffffcc"/>
                </a:solidFill>
                <a:latin typeface="Times New Roman"/>
              </a:rPr>
              <a:t>. It has 158 pictures and 533 pages!</a:t>
            </a:r>
            <a:endParaRPr b="0" lang="en-US" sz="2800" spc="-1" strike="noStrike">
              <a:solidFill>
                <a:srgbClr val="ffffcc"/>
              </a:solidFill>
              <a:latin typeface="Times New Roman"/>
            </a:endParaRPr>
          </a:p>
        </p:txBody>
      </p:sp>
      <p:pic>
        <p:nvPicPr>
          <p:cNvPr id="191" name="Content Placeholder 7" descr="index.jpg"/>
          <p:cNvPicPr/>
          <p:nvPr/>
        </p:nvPicPr>
        <p:blipFill>
          <a:blip r:embed="rId1"/>
          <a:stretch/>
        </p:blipFill>
        <p:spPr>
          <a:xfrm>
            <a:off x="5900760" y="2133720"/>
            <a:ext cx="2438280" cy="3809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93" name=""/>
          <p:cNvSpPr txBox="1"/>
          <p:nvPr/>
        </p:nvSpPr>
        <p:spPr>
          <a:xfrm>
            <a:off x="1252440" y="1981080"/>
            <a:ext cx="3810240" cy="4114800"/>
          </a:xfrm>
          <a:prstGeom prst="rect">
            <a:avLst/>
          </a:prstGeom>
          <a:noFill/>
          <a:ln w="0">
            <a:noFill/>
          </a:ln>
        </p:spPr>
        <p:txBody>
          <a:bodyPr lIns="92160" rIns="92160" tIns="46080" bIns="46080" anchor="t">
            <a:normAutofit/>
          </a:bodyPr>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book won the Caldecott honor medal the same year.</a:t>
            </a:r>
            <a:endParaRPr b="0" lang="en-US" sz="2800" spc="-1" strike="noStrike">
              <a:solidFill>
                <a:srgbClr val="ffffcc"/>
              </a:solidFill>
              <a:latin typeface="Times New Roman"/>
            </a:endParaRPr>
          </a:p>
        </p:txBody>
      </p:sp>
      <p:pic>
        <p:nvPicPr>
          <p:cNvPr id="194" name="Content Placeholder 4" descr="10872U2-1-1.jpg"/>
          <p:cNvPicPr/>
          <p:nvPr/>
        </p:nvPicPr>
        <p:blipFill>
          <a:blip r:embed="rId1"/>
          <a:stretch/>
        </p:blipFill>
        <p:spPr>
          <a:xfrm>
            <a:off x="5181480" y="2514600"/>
            <a:ext cx="3557880" cy="2666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96" name=""/>
          <p:cNvSpPr txBox="1"/>
          <p:nvPr/>
        </p:nvSpPr>
        <p:spPr>
          <a:xfrm>
            <a:off x="521460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book won in 2007 and it has only pictures. It is a wordless book!</a:t>
            </a:r>
            <a:endParaRPr b="0" lang="en-US" sz="2800" spc="-1" strike="noStrike">
              <a:solidFill>
                <a:srgbClr val="ffffcc"/>
              </a:solidFill>
              <a:latin typeface="Times New Roman"/>
            </a:endParaRPr>
          </a:p>
        </p:txBody>
      </p:sp>
      <p:pic>
        <p:nvPicPr>
          <p:cNvPr id="197" name="Picture 2" descr="Flotsam cover image"/>
          <p:cNvPicPr/>
          <p:nvPr/>
        </p:nvPicPr>
        <p:blipFill>
          <a:blip r:embed="rId1"/>
          <a:stretch/>
        </p:blipFill>
        <p:spPr>
          <a:xfrm>
            <a:off x="1430280" y="2666880"/>
            <a:ext cx="3167280" cy="251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pic>
        <p:nvPicPr>
          <p:cNvPr id="199" name="ClipArt Placeholder 4" descr="img132908.jpg"/>
          <p:cNvPicPr/>
          <p:nvPr/>
        </p:nvPicPr>
        <p:blipFill>
          <a:blip r:embed="rId1"/>
          <a:stretch/>
        </p:blipFill>
        <p:spPr>
          <a:xfrm>
            <a:off x="1252440" y="2340000"/>
            <a:ext cx="3810240" cy="3397320"/>
          </a:xfrm>
          <a:prstGeom prst="rect">
            <a:avLst/>
          </a:prstGeom>
          <a:ln w="0">
            <a:noFill/>
          </a:ln>
        </p:spPr>
      </p:pic>
      <p:sp>
        <p:nvSpPr>
          <p:cNvPr id="200" name="PlaceHolder 2"/>
          <p:cNvSpPr>
            <a:spLocks noGrp="1"/>
          </p:cNvSpPr>
          <p:nvPr>
            <p:ph/>
          </p:nvPr>
        </p:nvSpPr>
        <p:spPr>
          <a:xfrm>
            <a:off x="5214600" y="1981080"/>
            <a:ext cx="3809880" cy="4114800"/>
          </a:xfrm>
          <a:prstGeom prst="rect">
            <a:avLst/>
          </a:prstGeom>
          <a:noFill/>
          <a:ln w="0">
            <a:noFill/>
          </a:ln>
        </p:spPr>
        <p:txBody>
          <a:bodyPr lIns="92160" rIns="92160" tIns="46080" bIns="46080" anchor="t">
            <a:normAutofit/>
          </a:bodyPr>
          <a:p>
            <a:pPr marL="343080" indent="-3430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 alphabet book won the honor medal in 2007.</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202" name="PlaceHolder 2"/>
          <p:cNvSpPr>
            <a:spLocks noGrp="1"/>
          </p:cNvSpPr>
          <p:nvPr>
            <p:ph/>
          </p:nvPr>
        </p:nvSpPr>
        <p:spPr>
          <a:xfrm>
            <a:off x="5214600" y="1981080"/>
            <a:ext cx="38098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The Lion and the Mouse by Jerry Pinkney won in 2010. </a:t>
            </a:r>
            <a:endParaRPr b="0" lang="en-US" sz="3200" spc="-1" strike="noStrike">
              <a:solidFill>
                <a:srgbClr val="ffffcc"/>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tice the title is not on the cover! Why not?</a:t>
            </a:r>
            <a:endParaRPr b="0" lang="en-US" sz="3200" spc="-1" strike="noStrike">
              <a:solidFill>
                <a:srgbClr val="ffffcc"/>
              </a:solidFill>
              <a:latin typeface="Times New Roman"/>
            </a:endParaRPr>
          </a:p>
        </p:txBody>
      </p:sp>
      <p:pic>
        <p:nvPicPr>
          <p:cNvPr id="203" name="" descr=""/>
          <p:cNvPicPr/>
          <p:nvPr/>
        </p:nvPicPr>
        <p:blipFill>
          <a:blip r:embed="rId1"/>
          <a:stretch/>
        </p:blipFill>
        <p:spPr>
          <a:xfrm>
            <a:off x="1252440" y="1981080"/>
            <a:ext cx="3810240" cy="4114800"/>
          </a:xfrm>
          <a:prstGeom prst="rect">
            <a:avLst/>
          </a:prstGeom>
          <a:ln w="0">
            <a:noFill/>
          </a:ln>
        </p:spPr>
      </p:pic>
      <p:pic>
        <p:nvPicPr>
          <p:cNvPr id="204" name="Picture 5" descr=""/>
          <p:cNvPicPr/>
          <p:nvPr/>
        </p:nvPicPr>
        <p:blipFill>
          <a:blip r:embed="rId2"/>
          <a:stretch/>
        </p:blipFill>
        <p:spPr>
          <a:xfrm>
            <a:off x="1219320" y="1892160"/>
            <a:ext cx="3886200" cy="335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The Caldecott Medal</a:t>
            </a:r>
            <a:endParaRPr b="0" i="1" lang="en-US" sz="4400" spc="-1" strike="noStrike">
              <a:solidFill>
                <a:srgbClr val="ffcc00"/>
              </a:solidFill>
              <a:latin typeface="Times New Roman"/>
            </a:endParaRPr>
          </a:p>
        </p:txBody>
      </p:sp>
      <p:sp>
        <p:nvSpPr>
          <p:cNvPr id="146" name="PlaceHolder 2"/>
          <p:cNvSpPr>
            <a:spLocks noGrp="1"/>
          </p:cNvSpPr>
          <p:nvPr>
            <p:ph/>
          </p:nvPr>
        </p:nvSpPr>
        <p:spPr>
          <a:xfrm>
            <a:off x="1252440" y="1981080"/>
            <a:ext cx="3810240" cy="4114800"/>
          </a:xfrm>
          <a:prstGeom prst="rect">
            <a:avLst/>
          </a:prstGeom>
          <a:noFill/>
          <a:ln w="0">
            <a:noFill/>
          </a:ln>
        </p:spPr>
        <p:txBody>
          <a:bodyPr lIns="92160" rIns="92160" tIns="46080" bIns="4608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343080">
              <a:spcBef>
                <a:spcPts val="9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is the Caldecott Medal?</a:t>
            </a:r>
            <a:endParaRPr b="0" lang="en-US" sz="3600" spc="-1" strike="noStrike">
              <a:solidFill>
                <a:srgbClr val="ffffcc"/>
              </a:solidFill>
              <a:latin typeface="Times New Roman"/>
            </a:endParaRPr>
          </a:p>
        </p:txBody>
      </p:sp>
      <p:graphicFrame>
        <p:nvGraphicFramePr>
          <p:cNvPr id="147" name="Object 4"/>
          <p:cNvGraphicFramePr/>
          <p:nvPr/>
        </p:nvGraphicFramePr>
        <p:xfrm>
          <a:off x="5970600" y="1981080"/>
          <a:ext cx="2297160" cy="4114800"/>
        </p:xfrm>
        <a:graphic>
          <a:graphicData uri="http://schemas.openxmlformats.org/presentationml/2006/ole">
            <p:oleObj r:id="rId1" spid="">
              <p:embed/>
              <p:pic>
                <p:nvPicPr>
                  <p:cNvPr id="148" name="Object 4" descr=""/>
                  <p:cNvPicPr/>
                  <p:nvPr/>
                </p:nvPicPr>
                <p:blipFill>
                  <a:blip r:embed="rId2"/>
                  <a:stretch/>
                </p:blipFill>
                <p:spPr>
                  <a:xfrm>
                    <a:off x="5970600" y="1981080"/>
                    <a:ext cx="22971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5028840" y="2209680"/>
            <a:ext cx="3809880" cy="2743200"/>
          </a:xfrm>
          <a:prstGeom prst="rect">
            <a:avLst/>
          </a:prstGeom>
          <a:noFill/>
          <a:ln w="0">
            <a:noFill/>
          </a:ln>
        </p:spPr>
        <p:txBody>
          <a:bodyPr lIns="92160" rIns="92160" tIns="46080" bIns="46080" anchor="t">
            <a:normAutofit/>
          </a:bodyPr>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book won the Caldecott Medal in 2005. </a:t>
            </a:r>
            <a:endParaRPr b="0" lang="en-US" sz="2800" spc="-1" strike="noStrike">
              <a:solidFill>
                <a:srgbClr val="ffffcc"/>
              </a:solidFill>
              <a:latin typeface="Times New Roman"/>
            </a:endParaRPr>
          </a:p>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Kevin Henkes only used black and white illustrations!</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pic>
        <p:nvPicPr>
          <p:cNvPr id="206" name="Picture 3" descr="kitten's_first_full_moon"/>
          <p:cNvPicPr/>
          <p:nvPr/>
        </p:nvPicPr>
        <p:blipFill>
          <a:blip r:embed="rId1"/>
          <a:stretch/>
        </p:blipFill>
        <p:spPr>
          <a:xfrm>
            <a:off x="1295280" y="190512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028840" y="990360"/>
            <a:ext cx="3962520" cy="5562360"/>
          </a:xfrm>
          <a:prstGeom prst="rect">
            <a:avLst/>
          </a:prstGeom>
          <a:noFill/>
          <a:ln w="0">
            <a:noFill/>
          </a:ln>
        </p:spPr>
        <p:txBody>
          <a:bodyPr lIns="92160" rIns="92160" tIns="46080" bIns="46080" anchor="t">
            <a:normAutofit/>
          </a:bodyPr>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funny book won a Caldecott honor medal in 2004. Mo Willems has won 3 Caldecott Honor awards, 2 Geisel Medal awards, 2 Geisel Honor awards!</a:t>
            </a:r>
            <a:endParaRPr b="0" lang="en-US" sz="2800" spc="-1" strike="noStrike">
              <a:solidFill>
                <a:srgbClr val="ffffcc"/>
              </a:solidFill>
              <a:latin typeface="Times New Roman"/>
            </a:endParaRPr>
          </a:p>
        </p:txBody>
      </p:sp>
      <p:pic>
        <p:nvPicPr>
          <p:cNvPr id="208" name="Picture 6" descr="Don't_Let_the_Pigeon_Drive_the_Bus"/>
          <p:cNvPicPr/>
          <p:nvPr/>
        </p:nvPicPr>
        <p:blipFill>
          <a:blip r:embed="rId1"/>
          <a:stretch/>
        </p:blipFill>
        <p:spPr>
          <a:xfrm>
            <a:off x="1219320" y="1981080"/>
            <a:ext cx="3492360" cy="3225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Mo Willems Interview</a:t>
            </a:r>
            <a:endParaRPr b="0" i="1" lang="en-US" sz="4400" spc="-1" strike="noStrike">
              <a:solidFill>
                <a:srgbClr val="ffcc00"/>
              </a:solidFill>
              <a:latin typeface="Times New Roman"/>
            </a:endParaRPr>
          </a:p>
        </p:txBody>
      </p:sp>
      <p:pic>
        <p:nvPicPr>
          <p:cNvPr id="210" name="ClipArt Placeholder 4" descr=""/>
          <p:cNvPicPr/>
          <p:nvPr/>
        </p:nvPicPr>
        <p:blipFill>
          <a:blip r:embed="rId1"/>
          <a:stretch/>
        </p:blipFill>
        <p:spPr>
          <a:xfrm>
            <a:off x="1295280" y="1828800"/>
            <a:ext cx="7053480" cy="4305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5638680" y="533520"/>
            <a:ext cx="3200400" cy="5867280"/>
          </a:xfrm>
          <a:prstGeom prst="rect">
            <a:avLst/>
          </a:prstGeom>
          <a:noFill/>
          <a:ln w="0">
            <a:noFill/>
          </a:ln>
        </p:spPr>
        <p:txBody>
          <a:bodyPr lIns="92160" rIns="92160" tIns="46080" bIns="46080" anchor="t">
            <a:normAutofit/>
          </a:bodyPr>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aldecott winners have a sticker on the spine!</a:t>
            </a:r>
            <a:endParaRPr b="0" lang="en-US" sz="2800" spc="-1" strike="noStrike">
              <a:solidFill>
                <a:srgbClr val="ffffcc"/>
              </a:solidFill>
              <a:latin typeface="Times New Roman"/>
            </a:endParaRPr>
          </a:p>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eck out our display on the side counter</a:t>
            </a:r>
            <a:endParaRPr b="0" lang="en-US" sz="2800" spc="-1" strike="noStrike">
              <a:solidFill>
                <a:srgbClr val="ffffcc"/>
              </a:solidFill>
              <a:latin typeface="Times New Roman"/>
            </a:endParaRPr>
          </a:p>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eck out the poster with all the winners!</a:t>
            </a:r>
            <a:endParaRPr b="0" lang="en-US" sz="2800" spc="-1" strike="noStrike">
              <a:solidFill>
                <a:srgbClr val="ffffcc"/>
              </a:solidFill>
              <a:latin typeface="Times New Roman"/>
            </a:endParaRPr>
          </a:p>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Join the Caldecott challenge!</a:t>
            </a:r>
            <a:endParaRPr b="0" lang="en-US" sz="2800" spc="-1" strike="noStrike">
              <a:solidFill>
                <a:srgbClr val="ffffcc"/>
              </a:solidFill>
              <a:latin typeface="Times New Roman"/>
            </a:endParaRPr>
          </a:p>
        </p:txBody>
      </p:sp>
      <p:pic>
        <p:nvPicPr>
          <p:cNvPr id="212" name="Picture 3" descr="IMG_1861.JPG"/>
          <p:cNvPicPr/>
          <p:nvPr/>
        </p:nvPicPr>
        <p:blipFill>
          <a:blip r:embed="rId1"/>
          <a:stretch/>
        </p:blipFill>
        <p:spPr>
          <a:xfrm>
            <a:off x="1066680" y="1523880"/>
            <a:ext cx="4673880" cy="3505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4"/>
          <p:cNvSpPr/>
          <p:nvPr/>
        </p:nvSpPr>
        <p:spPr>
          <a:xfrm>
            <a:off x="838080" y="4648320"/>
            <a:ext cx="78487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Caldecott winners are really great!</a:t>
            </a:r>
            <a:endParaRPr b="0" lang="en-US" sz="3600" spc="-1" strike="noStrike">
              <a:solidFill>
                <a:srgbClr val="ffffcc"/>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Next time we will learn about the art styles illustrators use in their books.</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457200" y="2743200"/>
            <a:ext cx="8381880" cy="50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Bibliography</a:t>
            </a:r>
            <a:endParaRPr b="0" lang="en-US" sz="3600" spc="-1" strike="noStrike">
              <a:solidFill>
                <a:srgbClr val="ffffcc"/>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http://www.ala.org/ala/alsc/awardsscholarships/literaryawds/caldecottmedal/caldecotthonors/caldecottmedal.htm</a:t>
            </a:r>
            <a:endParaRPr b="0" lang="en-US" sz="2400" spc="-1" strike="noStrike">
              <a:solidFill>
                <a:srgbClr val="ffffcc"/>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http://www.sno-isle.org/</a:t>
            </a:r>
            <a:endParaRPr b="0" lang="en-US" sz="2400" spc="-1" strike="noStrike">
              <a:solidFill>
                <a:srgbClr val="ffffcc"/>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http://www.amazon.com/gp/homepage.html/104-7852690-6099124</a:t>
            </a:r>
            <a:endParaRPr b="0" lang="en-US" sz="2400" spc="-1" strike="noStrike">
              <a:solidFill>
                <a:srgbClr val="ffffcc"/>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2fba"/>
                </a:solidFill>
                <a:latin typeface="Times New Roman"/>
              </a:rPr>
              <a:t>http://www.dixie.fayette.k12.ky.us/LibSkills/Primary_Library_Information_Skills.htm#Second Grade</a:t>
            </a:r>
            <a:endParaRPr b="0" lang="en-US" sz="2400" spc="-1" strike="noStrike">
              <a:solidFill>
                <a:srgbClr val="ffffcc"/>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295280" y="1066680"/>
            <a:ext cx="3810240" cy="464832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award is given out every year by the Association for Library Service to Children,  a division of the American Library Association, to the artist of the </a:t>
            </a:r>
            <a:r>
              <a:rPr b="1" lang="en-US" sz="2400" spc="-1" strike="noStrike">
                <a:solidFill>
                  <a:srgbClr val="ffffcc"/>
                </a:solidFill>
                <a:latin typeface="Times New Roman"/>
              </a:rPr>
              <a:t>most distinguished</a:t>
            </a:r>
            <a:r>
              <a:rPr b="0" lang="en-US" sz="2400" spc="-1" strike="noStrike">
                <a:solidFill>
                  <a:srgbClr val="ffffcc"/>
                </a:solidFill>
                <a:latin typeface="Times New Roman"/>
              </a:rPr>
              <a:t> American picture book for children.</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50" name="Picture 6" descr=" "/>
          <p:cNvPicPr/>
          <p:nvPr/>
        </p:nvPicPr>
        <p:blipFill>
          <a:blip r:embed="rId1"/>
          <a:stretch/>
        </p:blipFill>
        <p:spPr>
          <a:xfrm>
            <a:off x="5410080" y="1828800"/>
            <a:ext cx="2935440" cy="296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52" name="PlaceHolder 2"/>
          <p:cNvSpPr>
            <a:spLocks noGrp="1"/>
          </p:cNvSpPr>
          <p:nvPr>
            <p:ph/>
          </p:nvPr>
        </p:nvSpPr>
        <p:spPr>
          <a:xfrm>
            <a:off x="1252440" y="1981080"/>
            <a:ext cx="3810240" cy="4114800"/>
          </a:xfrm>
          <a:prstGeom prst="rect">
            <a:avLst/>
          </a:prstGeom>
          <a:noFill/>
          <a:ln w="0">
            <a:noFill/>
          </a:ln>
        </p:spPr>
        <p:txBody>
          <a:bodyPr lIns="92160" rIns="92160" tIns="46080" bIns="46080" anchor="t">
            <a:normAutofit/>
          </a:bodyPr>
          <a:p>
            <a:pPr marL="343080" indent="-3430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nly picture books can earn this award. These children’s books are mostly pictures with only some words. </a:t>
            </a:r>
            <a:endParaRPr b="0" lang="en-US" sz="3200" spc="-1" strike="noStrike">
              <a:solidFill>
                <a:srgbClr val="ffffcc"/>
              </a:solidFill>
              <a:latin typeface="Times New Roman"/>
            </a:endParaRPr>
          </a:p>
        </p:txBody>
      </p:sp>
      <p:pic>
        <p:nvPicPr>
          <p:cNvPr id="153" name="Picture 2" descr="Cover image"/>
          <p:cNvPicPr/>
          <p:nvPr/>
        </p:nvPicPr>
        <p:blipFill>
          <a:blip r:embed="rId1"/>
          <a:stretch/>
        </p:blipFill>
        <p:spPr>
          <a:xfrm>
            <a:off x="5375160" y="2590920"/>
            <a:ext cx="2570400" cy="213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294920" y="1066680"/>
            <a:ext cx="4038840" cy="510552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Caldecott Medal was named in honor of  English illustrator Randolph Caldecott who lived in the 1800’s.  This is a book he wrote called “John Gilpin’s Ride.”</a:t>
            </a:r>
            <a:endParaRPr b="0" lang="en-US" sz="2800" spc="-1" strike="noStrike">
              <a:solidFill>
                <a:srgbClr val="ffffcc"/>
              </a:solidFill>
              <a:latin typeface="Times New Roman"/>
            </a:endParaRPr>
          </a:p>
        </p:txBody>
      </p:sp>
      <p:pic>
        <p:nvPicPr>
          <p:cNvPr id="155" name="Picture 8" descr="bslide41lthumb">
            <a:hlinkClick r:id="rId1"/>
          </p:cNvPr>
          <p:cNvPicPr/>
          <p:nvPr/>
        </p:nvPicPr>
        <p:blipFill>
          <a:blip r:embed="rId2"/>
          <a:stretch/>
        </p:blipFill>
        <p:spPr>
          <a:xfrm>
            <a:off x="5181480" y="990720"/>
            <a:ext cx="2183040" cy="2438280"/>
          </a:xfrm>
          <a:prstGeom prst="rect">
            <a:avLst/>
          </a:prstGeom>
          <a:ln w="0">
            <a:noFill/>
          </a:ln>
        </p:spPr>
      </p:pic>
      <p:pic>
        <p:nvPicPr>
          <p:cNvPr id="156" name="Picture 10" descr="bslide44lthumb"/>
          <p:cNvPicPr/>
          <p:nvPr/>
        </p:nvPicPr>
        <p:blipFill>
          <a:blip r:embed="rId3"/>
          <a:stretch/>
        </p:blipFill>
        <p:spPr>
          <a:xfrm>
            <a:off x="5886360" y="4267080"/>
            <a:ext cx="3257640" cy="190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1252440" y="1981080"/>
            <a:ext cx="381024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 1937, Rene’ Paul Chambellan designed the Caldecott Medal.  It is a bronze medal with the winner’s name and the date engraved on the back.  </a:t>
            </a:r>
            <a:endParaRPr b="0" lang="en-US" sz="2800" spc="-1" strike="noStrike">
              <a:solidFill>
                <a:srgbClr val="ffffcc"/>
              </a:solidFill>
              <a:latin typeface="Times New Roman"/>
            </a:endParaRPr>
          </a:p>
        </p:txBody>
      </p:sp>
      <p:graphicFrame>
        <p:nvGraphicFramePr>
          <p:cNvPr id="158" name="Object 4"/>
          <p:cNvGraphicFramePr/>
          <p:nvPr/>
        </p:nvGraphicFramePr>
        <p:xfrm>
          <a:off x="5214960" y="3122640"/>
          <a:ext cx="3809880" cy="1830240"/>
        </p:xfrm>
        <a:graphic>
          <a:graphicData uri="http://schemas.openxmlformats.org/presentationml/2006/ole">
            <p:oleObj r:id="rId1" spid="">
              <p:embed/>
              <p:pic>
                <p:nvPicPr>
                  <p:cNvPr id="159" name="Object 4" descr=""/>
                  <p:cNvPicPr/>
                  <p:nvPr/>
                </p:nvPicPr>
                <p:blipFill>
                  <a:blip r:embed="rId2"/>
                  <a:stretch/>
                </p:blipFill>
                <p:spPr>
                  <a:xfrm>
                    <a:off x="5214960" y="3122640"/>
                    <a:ext cx="3809880" cy="183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61" name="PlaceHolder 2"/>
          <p:cNvSpPr>
            <a:spLocks noGrp="1"/>
          </p:cNvSpPr>
          <p:nvPr>
            <p:ph/>
          </p:nvPr>
        </p:nvSpPr>
        <p:spPr>
          <a:xfrm>
            <a:off x="1252440" y="1981080"/>
            <a:ext cx="3810240" cy="4114800"/>
          </a:xfrm>
          <a:prstGeom prst="rect">
            <a:avLst/>
          </a:prstGeom>
          <a:noFill/>
          <a:ln w="0">
            <a:noFill/>
          </a:ln>
        </p:spPr>
        <p:txBody>
          <a:bodyPr lIns="92160" rIns="92160" tIns="46080" bIns="46080" anchor="t">
            <a:normAutofit/>
          </a:bodyPr>
          <a:p>
            <a:pPr marL="343080" indent="-3430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medal looks like the pictures from Randolph Caldecott’s book</a:t>
            </a:r>
            <a:endParaRPr b="0" lang="en-US" sz="3200" spc="-1" strike="noStrike">
              <a:solidFill>
                <a:srgbClr val="ffffcc"/>
              </a:solidFill>
              <a:latin typeface="Times New Roman"/>
            </a:endParaRPr>
          </a:p>
        </p:txBody>
      </p:sp>
      <p:pic>
        <p:nvPicPr>
          <p:cNvPr id="162" name="Picture 2" descr="Image"/>
          <p:cNvPicPr/>
          <p:nvPr/>
        </p:nvPicPr>
        <p:blipFill>
          <a:blip r:embed="rId1"/>
          <a:stretch/>
        </p:blipFill>
        <p:spPr>
          <a:xfrm>
            <a:off x="4876920" y="1905120"/>
            <a:ext cx="3809880" cy="1830240"/>
          </a:xfrm>
          <a:prstGeom prst="rect">
            <a:avLst/>
          </a:prstGeom>
          <a:ln w="0">
            <a:noFill/>
          </a:ln>
        </p:spPr>
      </p:pic>
      <p:pic>
        <p:nvPicPr>
          <p:cNvPr id="163" name="Picture 10" descr="bslide44lthumb"/>
          <p:cNvPicPr/>
          <p:nvPr/>
        </p:nvPicPr>
        <p:blipFill>
          <a:blip r:embed="rId2"/>
          <a:stretch/>
        </p:blipFill>
        <p:spPr>
          <a:xfrm>
            <a:off x="4724280" y="4114800"/>
            <a:ext cx="325764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295280" y="457200"/>
            <a:ext cx="381024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5 different Librarians are chosen to be on the Caldecott committee each year. They read hundreds and hundreds of books so they can decided which one is the best!</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pic>
        <p:nvPicPr>
          <p:cNvPr id="165" name="Picture 4" descr="Make_Way_for_Ducklings"/>
          <p:cNvPicPr/>
          <p:nvPr/>
        </p:nvPicPr>
        <p:blipFill>
          <a:blip r:embed="rId1"/>
          <a:stretch/>
        </p:blipFill>
        <p:spPr>
          <a:xfrm>
            <a:off x="4952880" y="4191120"/>
            <a:ext cx="1731960" cy="2209680"/>
          </a:xfrm>
          <a:prstGeom prst="rect">
            <a:avLst/>
          </a:prstGeom>
          <a:ln w="0">
            <a:noFill/>
          </a:ln>
        </p:spPr>
      </p:pic>
      <p:pic>
        <p:nvPicPr>
          <p:cNvPr id="166" name="Picture 5" descr="Grandfather's_Journey"/>
          <p:cNvPicPr/>
          <p:nvPr/>
        </p:nvPicPr>
        <p:blipFill>
          <a:blip r:embed="rId2"/>
          <a:stretch/>
        </p:blipFill>
        <p:spPr>
          <a:xfrm>
            <a:off x="5845320" y="304920"/>
            <a:ext cx="3298680" cy="4114800"/>
          </a:xfrm>
          <a:prstGeom prst="rect">
            <a:avLst/>
          </a:prstGeom>
          <a:ln w="0">
            <a:noFill/>
          </a:ln>
        </p:spPr>
      </p:pic>
      <p:pic>
        <p:nvPicPr>
          <p:cNvPr id="167" name="Picture 6" descr="Tikki_Tikki_Tembo"/>
          <p:cNvPicPr/>
          <p:nvPr/>
        </p:nvPicPr>
        <p:blipFill>
          <a:blip r:embed="rId3"/>
          <a:stretch/>
        </p:blipFill>
        <p:spPr>
          <a:xfrm>
            <a:off x="6553080" y="3581280"/>
            <a:ext cx="2205000" cy="2419560"/>
          </a:xfrm>
          <a:prstGeom prst="rect">
            <a:avLst/>
          </a:prstGeom>
          <a:ln w="0">
            <a:noFill/>
          </a:ln>
        </p:spPr>
      </p:pic>
      <p:pic>
        <p:nvPicPr>
          <p:cNvPr id="168" name="Picture 7" descr="Miss_Rumphius"/>
          <p:cNvPicPr/>
          <p:nvPr/>
        </p:nvPicPr>
        <p:blipFill>
          <a:blip r:embed="rId4"/>
          <a:stretch/>
        </p:blipFill>
        <p:spPr>
          <a:xfrm>
            <a:off x="5791320" y="5124600"/>
            <a:ext cx="1579320" cy="173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Medal Winner 2012</a:t>
            </a:r>
            <a:endParaRPr b="0" i="1" lang="en-US" sz="4400" spc="-1" strike="noStrike">
              <a:solidFill>
                <a:srgbClr val="ffcc00"/>
              </a:solidFill>
              <a:latin typeface="Times New Roman"/>
            </a:endParaRPr>
          </a:p>
        </p:txBody>
      </p:sp>
      <p:sp>
        <p:nvSpPr>
          <p:cNvPr id="170" name="PlaceHolder 2"/>
          <p:cNvSpPr>
            <a:spLocks noGrp="1"/>
          </p:cNvSpPr>
          <p:nvPr>
            <p:ph/>
          </p:nvPr>
        </p:nvSpPr>
        <p:spPr>
          <a:xfrm>
            <a:off x="1252440" y="1981080"/>
            <a:ext cx="3810240" cy="4114800"/>
          </a:xfrm>
          <a:prstGeom prst="rect">
            <a:avLst/>
          </a:prstGeom>
          <a:noFill/>
          <a:ln w="0">
            <a:noFill/>
          </a:ln>
        </p:spPr>
        <p:txBody>
          <a:bodyPr lIns="92160" rIns="92160" tIns="46080" bIns="46080" anchor="t">
            <a:normAutofit/>
          </a:bodyPr>
          <a:p>
            <a:pPr marL="343080" indent="-3430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the end of January the Caldecott winner is announced. This year the winner was </a:t>
            </a:r>
            <a:r>
              <a:rPr b="0" i="1" lang="en-US" sz="3200" spc="-1" strike="noStrike">
                <a:solidFill>
                  <a:srgbClr val="ffffcc"/>
                </a:solidFill>
                <a:latin typeface="Times New Roman"/>
              </a:rPr>
              <a:t>A Ball for Daisy </a:t>
            </a:r>
            <a:r>
              <a:rPr b="0" lang="en-US" sz="3200" spc="-1" strike="noStrike">
                <a:solidFill>
                  <a:srgbClr val="ffffcc"/>
                </a:solidFill>
                <a:latin typeface="Times New Roman"/>
              </a:rPr>
              <a:t>by Chris Raschka</a:t>
            </a:r>
            <a:endParaRPr b="0" lang="en-US" sz="3200" spc="-1" strike="noStrike">
              <a:solidFill>
                <a:srgbClr val="ffffcc"/>
              </a:solidFill>
              <a:latin typeface="Times New Roman"/>
            </a:endParaRPr>
          </a:p>
        </p:txBody>
      </p:sp>
      <p:pic>
        <p:nvPicPr>
          <p:cNvPr id="171" name="ClipArt Placeholder 2" descr=""/>
          <p:cNvPicPr/>
          <p:nvPr/>
        </p:nvPicPr>
        <p:blipFill>
          <a:blip r:embed="rId1"/>
          <a:stretch/>
        </p:blipFill>
        <p:spPr>
          <a:xfrm>
            <a:off x="5626080" y="3048120"/>
            <a:ext cx="2997360" cy="3138480"/>
          </a:xfrm>
          <a:prstGeom prst="rect">
            <a:avLst/>
          </a:prstGeom>
          <a:ln w="0">
            <a:noFill/>
          </a:ln>
        </p:spPr>
      </p:pic>
      <p:pic>
        <p:nvPicPr>
          <p:cNvPr id="172" name="Picture 6" descr=""/>
          <p:cNvPicPr/>
          <p:nvPr/>
        </p:nvPicPr>
        <p:blipFill>
          <a:blip r:embed="rId2"/>
          <a:stretch/>
        </p:blipFill>
        <p:spPr>
          <a:xfrm>
            <a:off x="6324480" y="228600"/>
            <a:ext cx="2210040" cy="218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0T20:36:41Z</dcterms:created>
  <dc:creator>Arrow Springs Elementary</dc:creator>
  <dc:description/>
  <dc:language>en-US</dc:language>
  <cp:lastModifiedBy>Hembree, Julie</cp:lastModifiedBy>
  <dcterms:modified xsi:type="dcterms:W3CDTF">2012-02-09T16:20:19Z</dcterms:modified>
  <cp:revision>35</cp:revision>
  <dc:subject/>
  <dc:title>The Caldecott Award</dc:title>
</cp:coreProperties>
</file>